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9.jpeg" ContentType="image/jpeg"/>
  <Override PartName="/ppt/media/image11.png" ContentType="image/pn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65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77800"/>
            <a:ext cx="7765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7780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240" y="417780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1640" y="175212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37840" y="175212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7780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1640" y="417780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37840" y="4177800"/>
            <a:ext cx="25005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65920" cy="46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659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897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7897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7897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7780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897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240" y="417780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240" y="1752120"/>
            <a:ext cx="37897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77800"/>
            <a:ext cx="77659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537240"/>
            <a:ext cx="2130480" cy="317520"/>
            <a:chOff x="0" y="6537240"/>
            <a:chExt cx="2130480" cy="317520"/>
          </a:xfrm>
        </p:grpSpPr>
        <p:sp>
          <p:nvSpPr>
            <p:cNvPr id="1" name=""/>
            <p:cNvSpPr/>
            <p:nvPr/>
          </p:nvSpPr>
          <p:spPr>
            <a:xfrm>
              <a:off x="0" y="6537240"/>
              <a:ext cx="2130480" cy="317520"/>
            </a:xfrm>
            <a:prstGeom prst="roundRect">
              <a:avLst>
                <a:gd name="adj" fmla="val 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78640"/>
              <a:ext cx="21304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3124080" y="6537240"/>
            <a:ext cx="2892600" cy="317520"/>
            <a:chOff x="3124080" y="6537240"/>
            <a:chExt cx="2892600" cy="317520"/>
          </a:xfrm>
        </p:grpSpPr>
        <p:sp>
          <p:nvSpPr>
            <p:cNvPr id="4" name=""/>
            <p:cNvSpPr/>
            <p:nvPr/>
          </p:nvSpPr>
          <p:spPr>
            <a:xfrm>
              <a:off x="3124080" y="6537240"/>
              <a:ext cx="2892600" cy="317520"/>
            </a:xfrm>
            <a:prstGeom prst="roundRect">
              <a:avLst>
                <a:gd name="adj" fmla="val 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124080" y="6578640"/>
              <a:ext cx="28926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7010280" y="6537240"/>
            <a:ext cx="2130480" cy="317520"/>
            <a:chOff x="7010280" y="6537240"/>
            <a:chExt cx="2130480" cy="317520"/>
          </a:xfrm>
        </p:grpSpPr>
        <p:sp>
          <p:nvSpPr>
            <p:cNvPr id="7" name=""/>
            <p:cNvSpPr/>
            <p:nvPr/>
          </p:nvSpPr>
          <p:spPr>
            <a:xfrm>
              <a:off x="7010280" y="6537240"/>
              <a:ext cx="2130480" cy="317520"/>
            </a:xfrm>
            <a:prstGeom prst="roundRect">
              <a:avLst>
                <a:gd name="adj" fmla="val 5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010280" y="6578280"/>
              <a:ext cx="21304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fld id="{08BD370B-2FF0-48C6-AD1C-C07827258E01}" type="slidenum"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659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-unix.mcs.anl.gov/scidac-tops/solver-components/tops.sidl.html" TargetMode="External"/><Relationship Id="rId2" Type="http://schemas.openxmlformats.org/officeDocument/2006/relationships/hyperlink" Target="http://www-unix.mcs.anl.gov/scidac-tops/solver-components/examples/c++/ex1/ex1.cc" TargetMode="External"/><Relationship Id="rId3" Type="http://schemas.openxmlformats.org/officeDocument/2006/relationships/hyperlink" Target="http://www-unix.mcs.anl.gov/scidac-tops/solver-components/examples/c++/ex1/Ex1_rc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-unix.mcs.anl.gov/scidac-tops/solver-components/topsccafe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-unix.mcs.anl.gov/scidac-tops/solver-components/topsgenerator.html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cs.anl.gov/scidac-tops/solver-components/tops.html" TargetMode="External"/><Relationship Id="rId2" Type="http://schemas.openxmlformats.org/officeDocument/2006/relationships/hyperlink" Target="http://www.mcs.anl.gov/scidac-tops/solver-components/tops.html" TargetMode="External"/><Relationship Id="rId3" Type="http://schemas.openxmlformats.org/officeDocument/2006/relationships/hyperlink" Target="http://www.mcs.anl.gov/scidac-tops/solver-components/tops.html" TargetMode="External"/><Relationship Id="rId4" Type="http://schemas.openxmlformats.org/officeDocument/2006/relationships/hyperlink" Target="http://www.mcs.anl.gov/scidac-tops/solver-components/tops.html" TargetMode="External"/><Relationship Id="rId5" Type="http://schemas.openxmlformats.org/officeDocument/2006/relationships/hyperlink" Target="http://www.mcs.anl.gov/scidac-tops/solver-components/tops.html" TargetMode="External"/><Relationship Id="rId6" Type="http://schemas.openxmlformats.org/officeDocument/2006/relationships/hyperlink" Target="http://www.mcs.anl.gov/scidac-tops/solver-components/tops.html" TargetMode="External"/><Relationship Id="rId7" Type="http://schemas.openxmlformats.org/officeDocument/2006/relationships/hyperlink" Target="http://www.mcs.anl.gov/scidac-tops/solver-components/tops.html" TargetMode="External"/><Relationship Id="rId8" Type="http://schemas.openxmlformats.org/officeDocument/2006/relationships/hyperlink" Target="http://www.mcs.anl.gov/scidac-tops/solver-components/tops.html" TargetMode="External"/><Relationship Id="rId9" Type="http://schemas.openxmlformats.org/officeDocument/2006/relationships/hyperlink" Target="http://www.mcs.anl.gov/scidac-tops/solver-components/tops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Solve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80680" y="1504440"/>
            <a:ext cx="78706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anguage-indepen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ftware components for the scalable solution of larg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nlinear algebraic sys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ising from either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tructured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nstructured me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x=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(u)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:R     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ant with the Common Component Architecture (C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s use SIDL (Scientific Interface Definition Language) and the Babel (LLNL) language interoperability t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terfaces to facilitate easy experimentation with different solvers developed by different institu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by the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CTT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CA) SciDAC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664800" y="2664000"/>
            <a:ext cx="907920" cy="459720"/>
            <a:chOff x="3664800" y="2664000"/>
            <a:chExt cx="907920" cy="459720"/>
          </a:xfrm>
        </p:grpSpPr>
        <p:sp>
          <p:nvSpPr>
            <p:cNvPr id="50" name=""/>
            <p:cNvSpPr/>
            <p:nvPr/>
          </p:nvSpPr>
          <p:spPr>
            <a:xfrm>
              <a:off x="3838680" y="3044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64800" y="2664000"/>
              <a:ext cx="90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         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508280" y="5613120"/>
            <a:ext cx="2743200" cy="569880"/>
            <a:chOff x="4508280" y="5613120"/>
            <a:chExt cx="2743200" cy="569880"/>
          </a:xfrm>
        </p:grpSpPr>
        <p:grpSp>
          <p:nvGrpSpPr>
            <p:cNvPr id="53" name=""/>
            <p:cNvGrpSpPr/>
            <p:nvPr/>
          </p:nvGrpSpPr>
          <p:grpSpPr>
            <a:xfrm>
              <a:off x="4508280" y="5613120"/>
              <a:ext cx="586800" cy="568080"/>
              <a:chOff x="4508280" y="5613120"/>
              <a:chExt cx="586800" cy="568080"/>
            </a:xfrm>
          </p:grpSpPr>
          <p:sp>
            <p:nvSpPr>
              <p:cNvPr id="54" name=""/>
              <p:cNvSpPr/>
              <p:nvPr/>
            </p:nvSpPr>
            <p:spPr>
              <a:xfrm>
                <a:off x="4520160" y="5619960"/>
                <a:ext cx="570240" cy="554760"/>
              </a:xfrm>
              <a:prstGeom prst="ellipse">
                <a:avLst/>
              </a:prstGeom>
              <a:solidFill>
                <a:srgbClr val="faec24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65760" y="5964840"/>
                <a:ext cx="92160" cy="88920"/>
              </a:xfrm>
              <a:custGeom>
                <a:avLst/>
                <a:gdLst/>
                <a:ahLst/>
                <a:rect l="l" t="t" r="r" b="b"/>
                <a:pathLst>
                  <a:path w="171" h="171">
                    <a:moveTo>
                      <a:pt x="170" y="170"/>
                    </a:moveTo>
                    <a:lnTo>
                      <a:pt x="0" y="170"/>
                    </a:lnTo>
                    <a:lnTo>
                      <a:pt x="170" y="0"/>
                    </a:lnTo>
                    <a:lnTo>
                      <a:pt x="170" y="170"/>
                    </a:lnTo>
                    <a:lnTo>
                      <a:pt x="170" y="170"/>
                    </a:lnTo>
                  </a:path>
                </a:pathLst>
              </a:custGeom>
              <a:solidFill>
                <a:srgbClr val="d69627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870800" y="5757120"/>
                <a:ext cx="92160" cy="88920"/>
              </a:xfrm>
              <a:custGeom>
                <a:avLst/>
                <a:gdLst/>
                <a:ahLst/>
                <a:rect l="l" t="t" r="r" b="b"/>
                <a:pathLst>
                  <a:path w="171" h="170">
                    <a:moveTo>
                      <a:pt x="170" y="0"/>
                    </a:moveTo>
                    <a:lnTo>
                      <a:pt x="170" y="169"/>
                    </a:lnTo>
                    <a:lnTo>
                      <a:pt x="0" y="0"/>
                    </a:lnTo>
                    <a:lnTo>
                      <a:pt x="170" y="0"/>
                    </a:lnTo>
                    <a:lnTo>
                      <a:pt x="170" y="0"/>
                    </a:lnTo>
                  </a:path>
                </a:pathLst>
              </a:custGeom>
              <a:solidFill>
                <a:srgbClr val="d69627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745160" y="5695560"/>
                <a:ext cx="120600" cy="58680"/>
              </a:xfrm>
              <a:custGeom>
                <a:avLst/>
                <a:gdLst/>
                <a:ahLst/>
                <a:rect l="l" t="t" r="r" b="b"/>
                <a:pathLst>
                  <a:path w="224" h="114">
                    <a:moveTo>
                      <a:pt x="0" y="113"/>
                    </a:moveTo>
                    <a:lnTo>
                      <a:pt x="109" y="0"/>
                    </a:lnTo>
                    <a:lnTo>
                      <a:pt x="223" y="113"/>
                    </a:lnTo>
                    <a:lnTo>
                      <a:pt x="0" y="113"/>
                    </a:lnTo>
                    <a:lnTo>
                      <a:pt x="0" y="113"/>
                    </a:lnTo>
                  </a:path>
                </a:pathLst>
              </a:custGeom>
              <a:solidFill>
                <a:srgbClr val="da6725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4806720" y="5613120"/>
                <a:ext cx="1800" cy="9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654800" y="5652000"/>
                <a:ext cx="151560" cy="104760"/>
              </a:xfrm>
              <a:custGeom>
                <a:avLst/>
                <a:gdLst/>
                <a:ahLst/>
                <a:rect l="l" t="t" r="r" b="b"/>
                <a:pathLst>
                  <a:path w="281" h="202">
                    <a:moveTo>
                      <a:pt x="168" y="201"/>
                    </a:moveTo>
                    <a:lnTo>
                      <a:pt x="280" y="86"/>
                    </a:lnTo>
                    <a:lnTo>
                      <a:pt x="83" y="0"/>
                    </a:lnTo>
                    <a:lnTo>
                      <a:pt x="0" y="201"/>
                    </a:lnTo>
                    <a:lnTo>
                      <a:pt x="168" y="201"/>
                    </a:lnTo>
                    <a:lnTo>
                      <a:pt x="168" y="201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700160" y="5738400"/>
                <a:ext cx="2520" cy="29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747320" y="5658840"/>
                <a:ext cx="2520" cy="29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4744800" y="5725080"/>
                <a:ext cx="615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659840" y="5699880"/>
                <a:ext cx="3996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808880" y="5652000"/>
                <a:ext cx="153720" cy="104760"/>
              </a:xfrm>
              <a:custGeom>
                <a:avLst/>
                <a:gdLst/>
                <a:ahLst/>
                <a:rect l="l" t="t" r="r" b="b"/>
                <a:pathLst>
                  <a:path w="285" h="202">
                    <a:moveTo>
                      <a:pt x="114" y="201"/>
                    </a:moveTo>
                    <a:lnTo>
                      <a:pt x="0" y="86"/>
                    </a:lnTo>
                    <a:lnTo>
                      <a:pt x="200" y="0"/>
                    </a:lnTo>
                    <a:lnTo>
                      <a:pt x="284" y="201"/>
                    </a:lnTo>
                    <a:lnTo>
                      <a:pt x="114" y="201"/>
                    </a:lnTo>
                    <a:lnTo>
                      <a:pt x="114" y="201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12920" y="5738400"/>
                <a:ext cx="1800" cy="29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870800" y="5658840"/>
                <a:ext cx="1800" cy="29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820760" y="5725080"/>
                <a:ext cx="399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4905720" y="5699880"/>
                <a:ext cx="5868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654800" y="5754600"/>
                <a:ext cx="92160" cy="88920"/>
              </a:xfrm>
              <a:custGeom>
                <a:avLst/>
                <a:gdLst/>
                <a:ahLst/>
                <a:rect l="l" t="t" r="r" b="b"/>
                <a:pathLst>
                  <a:path w="171" h="170">
                    <a:moveTo>
                      <a:pt x="0" y="0"/>
                    </a:moveTo>
                    <a:lnTo>
                      <a:pt x="170" y="0"/>
                    </a:lnTo>
                    <a:lnTo>
                      <a:pt x="0" y="169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69627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4591080" y="5695560"/>
                <a:ext cx="71280" cy="66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595760" y="5841720"/>
                <a:ext cx="61560" cy="118440"/>
              </a:xfrm>
              <a:custGeom>
                <a:avLst/>
                <a:gdLst/>
                <a:ahLst/>
                <a:rect l="l" t="t" r="r" b="b"/>
                <a:pathLst>
                  <a:path w="113" h="228">
                    <a:moveTo>
                      <a:pt x="112" y="227"/>
                    </a:moveTo>
                    <a:lnTo>
                      <a:pt x="0" y="114"/>
                    </a:lnTo>
                    <a:lnTo>
                      <a:pt x="112" y="0"/>
                    </a:lnTo>
                    <a:lnTo>
                      <a:pt x="112" y="227"/>
                    </a:lnTo>
                    <a:lnTo>
                      <a:pt x="112" y="227"/>
                    </a:lnTo>
                  </a:path>
                </a:pathLst>
              </a:custGeom>
              <a:solidFill>
                <a:srgbClr val="da6725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4508280" y="5903280"/>
                <a:ext cx="968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550760" y="5903280"/>
                <a:ext cx="108720" cy="145800"/>
              </a:xfrm>
              <a:custGeom>
                <a:avLst/>
                <a:gdLst/>
                <a:ahLst/>
                <a:rect l="l" t="t" r="r" b="b"/>
                <a:pathLst>
                  <a:path w="202" h="281">
                    <a:moveTo>
                      <a:pt x="201" y="113"/>
                    </a:moveTo>
                    <a:lnTo>
                      <a:pt x="87" y="0"/>
                    </a:lnTo>
                    <a:lnTo>
                      <a:pt x="0" y="196"/>
                    </a:lnTo>
                    <a:lnTo>
                      <a:pt x="201" y="280"/>
                    </a:lnTo>
                    <a:lnTo>
                      <a:pt x="201" y="113"/>
                    </a:lnTo>
                    <a:lnTo>
                      <a:pt x="201" y="113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641120" y="6003720"/>
                <a:ext cx="30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558320" y="5960160"/>
                <a:ext cx="3024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619520" y="5912280"/>
                <a:ext cx="2520" cy="3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4600800" y="5996880"/>
                <a:ext cx="1800" cy="5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548600" y="5757120"/>
                <a:ext cx="108720" cy="145800"/>
              </a:xfrm>
              <a:custGeom>
                <a:avLst/>
                <a:gdLst/>
                <a:ahLst/>
                <a:rect l="l" t="t" r="r" b="b"/>
                <a:pathLst>
                  <a:path w="201" h="281">
                    <a:moveTo>
                      <a:pt x="200" y="168"/>
                    </a:moveTo>
                    <a:lnTo>
                      <a:pt x="86" y="280"/>
                    </a:lnTo>
                    <a:lnTo>
                      <a:pt x="0" y="84"/>
                    </a:lnTo>
                    <a:lnTo>
                      <a:pt x="200" y="0"/>
                    </a:lnTo>
                    <a:lnTo>
                      <a:pt x="200" y="168"/>
                    </a:lnTo>
                    <a:lnTo>
                      <a:pt x="200" y="168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641120" y="5798160"/>
                <a:ext cx="3024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58320" y="5841720"/>
                <a:ext cx="3024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4619520" y="5841720"/>
                <a:ext cx="2520" cy="5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600800" y="5757120"/>
                <a:ext cx="1800" cy="3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654800" y="5964840"/>
                <a:ext cx="92160" cy="88920"/>
              </a:xfrm>
              <a:custGeom>
                <a:avLst/>
                <a:gdLst/>
                <a:ahLst/>
                <a:rect l="l" t="t" r="r" b="b"/>
                <a:pathLst>
                  <a:path w="171" h="171">
                    <a:moveTo>
                      <a:pt x="0" y="170"/>
                    </a:moveTo>
                    <a:lnTo>
                      <a:pt x="0" y="0"/>
                    </a:lnTo>
                    <a:lnTo>
                      <a:pt x="170" y="170"/>
                    </a:lnTo>
                    <a:lnTo>
                      <a:pt x="0" y="170"/>
                    </a:lnTo>
                    <a:lnTo>
                      <a:pt x="0" y="170"/>
                    </a:lnTo>
                  </a:path>
                </a:pathLst>
              </a:custGeom>
              <a:solidFill>
                <a:srgbClr val="d69627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4593600" y="6049080"/>
                <a:ext cx="68400" cy="4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743000" y="6049080"/>
                <a:ext cx="119880" cy="61560"/>
              </a:xfrm>
              <a:custGeom>
                <a:avLst/>
                <a:gdLst/>
                <a:ahLst/>
                <a:rect l="l" t="t" r="r" b="b"/>
                <a:pathLst>
                  <a:path w="223" h="118">
                    <a:moveTo>
                      <a:pt x="222" y="0"/>
                    </a:moveTo>
                    <a:lnTo>
                      <a:pt x="111" y="117"/>
                    </a:lnTo>
                    <a:lnTo>
                      <a:pt x="0" y="0"/>
                    </a:lnTo>
                    <a:lnTo>
                      <a:pt x="222" y="0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da6725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804200" y="6108480"/>
                <a:ext cx="2520" cy="72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804200" y="604908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280" h="201">
                    <a:moveTo>
                      <a:pt x="111" y="0"/>
                    </a:moveTo>
                    <a:lnTo>
                      <a:pt x="0" y="115"/>
                    </a:lnTo>
                    <a:lnTo>
                      <a:pt x="196" y="200"/>
                    </a:lnTo>
                    <a:lnTo>
                      <a:pt x="279" y="0"/>
                    </a:lnTo>
                    <a:lnTo>
                      <a:pt x="111" y="0"/>
                    </a:lnTo>
                    <a:lnTo>
                      <a:pt x="111" y="0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4910760" y="6024240"/>
                <a:ext cx="1800" cy="47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4865760" y="6103440"/>
                <a:ext cx="1800" cy="4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813920" y="6081120"/>
                <a:ext cx="42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4900680" y="6102000"/>
                <a:ext cx="58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52640" y="6049080"/>
                <a:ext cx="151200" cy="104760"/>
              </a:xfrm>
              <a:custGeom>
                <a:avLst/>
                <a:gdLst/>
                <a:ahLst/>
                <a:rect l="l" t="t" r="r" b="b"/>
                <a:pathLst>
                  <a:path w="281" h="201">
                    <a:moveTo>
                      <a:pt x="167" y="0"/>
                    </a:moveTo>
                    <a:lnTo>
                      <a:pt x="280" y="115"/>
                    </a:lnTo>
                    <a:lnTo>
                      <a:pt x="82" y="200"/>
                    </a:lnTo>
                    <a:lnTo>
                      <a:pt x="0" y="0"/>
                    </a:lnTo>
                    <a:lnTo>
                      <a:pt x="167" y="0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4695120" y="6024240"/>
                <a:ext cx="2520" cy="47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4743000" y="6103440"/>
                <a:ext cx="1800" cy="4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4742640" y="6081120"/>
                <a:ext cx="586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54800" y="6102000"/>
                <a:ext cx="399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957920" y="6049080"/>
                <a:ext cx="51840" cy="47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7920" y="5841720"/>
                <a:ext cx="60840" cy="118440"/>
              </a:xfrm>
              <a:custGeom>
                <a:avLst/>
                <a:gdLst/>
                <a:ahLst/>
                <a:rect l="l" t="t" r="r" b="b"/>
                <a:pathLst>
                  <a:path w="113" h="228">
                    <a:moveTo>
                      <a:pt x="0" y="0"/>
                    </a:moveTo>
                    <a:lnTo>
                      <a:pt x="112" y="112"/>
                    </a:lnTo>
                    <a:lnTo>
                      <a:pt x="0" y="227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6725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019120" y="5903280"/>
                <a:ext cx="7596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957920" y="5759280"/>
                <a:ext cx="104040" cy="143640"/>
              </a:xfrm>
              <a:custGeom>
                <a:avLst/>
                <a:gdLst/>
                <a:ahLst/>
                <a:rect l="l" t="t" r="r" b="b"/>
                <a:pathLst>
                  <a:path w="196" h="280">
                    <a:moveTo>
                      <a:pt x="0" y="167"/>
                    </a:moveTo>
                    <a:lnTo>
                      <a:pt x="112" y="279"/>
                    </a:lnTo>
                    <a:lnTo>
                      <a:pt x="195" y="83"/>
                    </a:lnTo>
                    <a:lnTo>
                      <a:pt x="0" y="0"/>
                    </a:lnTo>
                    <a:lnTo>
                      <a:pt x="0" y="167"/>
                    </a:lnTo>
                    <a:lnTo>
                      <a:pt x="0" y="167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4934160" y="5798160"/>
                <a:ext cx="4932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5014440" y="5846040"/>
                <a:ext cx="493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4988520" y="5843160"/>
                <a:ext cx="2520" cy="5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012280" y="5761800"/>
                <a:ext cx="2520" cy="3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57920" y="5903280"/>
                <a:ext cx="104040" cy="145800"/>
              </a:xfrm>
              <a:custGeom>
                <a:avLst/>
                <a:gdLst/>
                <a:ahLst/>
                <a:rect l="l" t="t" r="r" b="b"/>
                <a:pathLst>
                  <a:path w="196" h="281">
                    <a:moveTo>
                      <a:pt x="0" y="112"/>
                    </a:moveTo>
                    <a:lnTo>
                      <a:pt x="112" y="0"/>
                    </a:lnTo>
                    <a:lnTo>
                      <a:pt x="195" y="197"/>
                    </a:lnTo>
                    <a:lnTo>
                      <a:pt x="0" y="280"/>
                    </a:lnTo>
                    <a:lnTo>
                      <a:pt x="0" y="112"/>
                    </a:lnTo>
                    <a:lnTo>
                      <a:pt x="0" y="112"/>
                    </a:lnTo>
                  </a:path>
                </a:pathLst>
              </a:custGeom>
              <a:solidFill>
                <a:srgbClr val="d2292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4934160" y="6003720"/>
                <a:ext cx="493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014440" y="5962680"/>
                <a:ext cx="493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988520" y="5914440"/>
                <a:ext cx="2520" cy="38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5012280" y="5996880"/>
                <a:ext cx="2520" cy="56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4957920" y="5695560"/>
                <a:ext cx="49320" cy="66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041800" y="5613480"/>
              <a:ext cx="1103040" cy="569520"/>
              <a:chOff x="5041800" y="5613480"/>
              <a:chExt cx="1103040" cy="569520"/>
            </a:xfrm>
          </p:grpSpPr>
          <p:sp>
            <p:nvSpPr>
              <p:cNvPr id="112" name=""/>
              <p:cNvSpPr/>
              <p:nvPr/>
            </p:nvSpPr>
            <p:spPr>
              <a:xfrm>
                <a:off x="5041800" y="5613480"/>
                <a:ext cx="1103040" cy="569520"/>
              </a:xfrm>
              <a:prstGeom prst="roundRect">
                <a:avLst>
                  <a:gd name="adj" fmla="val 40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5041800" y="5613480"/>
                <a:ext cx="1100520" cy="566640"/>
                <a:chOff x="5041800" y="5613480"/>
                <a:chExt cx="1100520" cy="5666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041800" y="5613480"/>
                  <a:ext cx="1100520" cy="566640"/>
                </a:xfrm>
                <a:prstGeom prst="roundRect">
                  <a:avLst>
                    <a:gd name="adj" fmla="val 403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" name=""/>
                <p:cNvGrpSpPr/>
                <p:nvPr/>
              </p:nvGrpSpPr>
              <p:grpSpPr>
                <a:xfrm>
                  <a:off x="5041800" y="5613480"/>
                  <a:ext cx="1097280" cy="566280"/>
                  <a:chOff x="5041800" y="5613480"/>
                  <a:chExt cx="1097280" cy="56628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5041800" y="5613480"/>
                    <a:ext cx="1097280" cy="566280"/>
                  </a:xfrm>
                  <a:prstGeom prst="roundRect">
                    <a:avLst>
                      <a:gd name="adj" fmla="val 40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5041800" y="5613480"/>
                    <a:ext cx="734760" cy="378000"/>
                  </a:xfrm>
                  <a:prstGeom prst="roundRect">
                    <a:avLst>
                      <a:gd name="adj" fmla="val 403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d45512"/>
                        </a:solidFill>
                        <a:latin typeface="Times New Roman"/>
                      </a:rPr>
                      <a:t>CC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" name=""/>
            <p:cNvGrpSpPr/>
            <p:nvPr/>
          </p:nvGrpSpPr>
          <p:grpSpPr>
            <a:xfrm>
              <a:off x="5028480" y="5905440"/>
              <a:ext cx="2223000" cy="261720"/>
              <a:chOff x="5028480" y="5905440"/>
              <a:chExt cx="2223000" cy="261720"/>
            </a:xfrm>
          </p:grpSpPr>
          <p:sp>
            <p:nvSpPr>
              <p:cNvPr id="119" name=""/>
              <p:cNvSpPr/>
              <p:nvPr/>
            </p:nvSpPr>
            <p:spPr>
              <a:xfrm>
                <a:off x="5073840" y="5905440"/>
                <a:ext cx="2177640" cy="261720"/>
              </a:xfrm>
              <a:prstGeom prst="roundRect">
                <a:avLst>
                  <a:gd name="adj" fmla="val 87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5028480" y="5905440"/>
                <a:ext cx="2220480" cy="259200"/>
                <a:chOff x="5028480" y="5905440"/>
                <a:chExt cx="2220480" cy="2592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073840" y="5905440"/>
                  <a:ext cx="2175120" cy="259200"/>
                </a:xfrm>
                <a:prstGeom prst="roundRect">
                  <a:avLst>
                    <a:gd name="adj" fmla="val 88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" name=""/>
                <p:cNvGrpSpPr/>
                <p:nvPr/>
              </p:nvGrpSpPr>
              <p:grpSpPr>
                <a:xfrm>
                  <a:off x="5028480" y="5905440"/>
                  <a:ext cx="2217240" cy="258840"/>
                  <a:chOff x="5028480" y="5905440"/>
                  <a:chExt cx="2217240" cy="25884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5073840" y="5905440"/>
                    <a:ext cx="2171880" cy="258840"/>
                  </a:xfrm>
                  <a:prstGeom prst="roundRect">
                    <a:avLst>
                      <a:gd name="adj" fmla="val 88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5028480" y="5905440"/>
                    <a:ext cx="2141280" cy="231840"/>
                  </a:xfrm>
                  <a:prstGeom prst="roundRect">
                    <a:avLst>
                      <a:gd name="adj" fmla="val 88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d45512"/>
                        </a:solidFill>
                        <a:latin typeface="Gill Sans"/>
                      </a:rPr>
                      <a:t>Common Component Architectur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98600" y="5557680"/>
            <a:ext cx="144792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6592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S.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S Component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S Software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CCA Overview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3920"/>
            <a:ext cx="77659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.System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tops-system1" descr=""/>
          <p:cNvPicPr/>
          <p:nvPr/>
        </p:nvPicPr>
        <p:blipFill>
          <a:blip r:embed="rId1"/>
          <a:stretch/>
        </p:blipFill>
        <p:spPr>
          <a:xfrm>
            <a:off x="1486080" y="900000"/>
            <a:ext cx="6172200" cy="5743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764320" y="58276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2520"/>
            <a:ext cx="77659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.System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tops-system2" descr=""/>
          <p:cNvPicPr/>
          <p:nvPr/>
        </p:nvPicPr>
        <p:blipFill>
          <a:blip r:embed="rId1"/>
          <a:stretch/>
        </p:blipFill>
        <p:spPr>
          <a:xfrm>
            <a:off x="685800" y="1733400"/>
            <a:ext cx="8035920" cy="4469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318360" y="502596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2520"/>
            <a:ext cx="77659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.System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tops-system3" descr=""/>
          <p:cNvPicPr/>
          <p:nvPr/>
        </p:nvPicPr>
        <p:blipFill>
          <a:blip r:embed="rId1"/>
          <a:stretch/>
        </p:blipFill>
        <p:spPr>
          <a:xfrm>
            <a:off x="1014480" y="1220760"/>
            <a:ext cx="7111800" cy="5048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945400" y="52387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2520"/>
            <a:ext cx="77659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.System (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tops-system4" descr=""/>
          <p:cNvPicPr/>
          <p:nvPr/>
        </p:nvPicPr>
        <p:blipFill>
          <a:blip r:embed="rId1"/>
          <a:stretch/>
        </p:blipFill>
        <p:spPr>
          <a:xfrm>
            <a:off x="803160" y="1325520"/>
            <a:ext cx="7548840" cy="5197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104160" y="50101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2520"/>
            <a:ext cx="77659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.System (5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tops-system5" descr=""/>
          <p:cNvPicPr/>
          <p:nvPr/>
        </p:nvPicPr>
        <p:blipFill>
          <a:blip r:embed="rId1"/>
          <a:stretch/>
        </p:blipFill>
        <p:spPr>
          <a:xfrm>
            <a:off x="353880" y="1544760"/>
            <a:ext cx="847116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700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Software Installer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434600"/>
            <a:ext cx="776592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load TOPSInstaller.py and r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ython TOPSInstaller.p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(on Apple Mac OS 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pythonw may be nee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using the EasyGui.py python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the questions as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1" descr=""/>
          <p:cNvPicPr/>
          <p:nvPr/>
        </p:nvPicPr>
        <p:blipFill>
          <a:blip r:embed="rId1"/>
          <a:stretch/>
        </p:blipFill>
        <p:spPr>
          <a:xfrm>
            <a:off x="2257560" y="3567240"/>
            <a:ext cx="46288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76120"/>
            <a:ext cx="77659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Software Installer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3" descr=""/>
          <p:cNvPicPr/>
          <p:nvPr/>
        </p:nvPicPr>
        <p:blipFill>
          <a:blip r:embed="rId1"/>
          <a:stretch/>
        </p:blipFill>
        <p:spPr>
          <a:xfrm>
            <a:off x="2028960" y="3252960"/>
            <a:ext cx="5154480" cy="3554280"/>
          </a:xfrm>
          <a:prstGeom prst="rect">
            <a:avLst/>
          </a:prstGeom>
          <a:ln w="0">
            <a:noFill/>
          </a:ln>
        </p:spPr>
      </p:pic>
      <p:pic>
        <p:nvPicPr>
          <p:cNvPr id="182" name="2" descr=""/>
          <p:cNvPicPr/>
          <p:nvPr/>
        </p:nvPicPr>
        <p:blipFill>
          <a:blip r:embed="rId2"/>
          <a:stretch/>
        </p:blipFill>
        <p:spPr>
          <a:xfrm>
            <a:off x="1558800" y="974880"/>
            <a:ext cx="609300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0720"/>
            <a:ext cx="77659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Software Installer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7" descr=""/>
          <p:cNvPicPr/>
          <p:nvPr/>
        </p:nvPicPr>
        <p:blipFill>
          <a:blip r:embed="rId1"/>
          <a:stretch/>
        </p:blipFill>
        <p:spPr>
          <a:xfrm>
            <a:off x="1971720" y="2687760"/>
            <a:ext cx="5200560" cy="1164960"/>
          </a:xfrm>
          <a:prstGeom prst="rect">
            <a:avLst/>
          </a:prstGeom>
          <a:ln w="0">
            <a:noFill/>
          </a:ln>
        </p:spPr>
      </p:pic>
      <p:pic>
        <p:nvPicPr>
          <p:cNvPr id="185" name="8" descr=""/>
          <p:cNvPicPr/>
          <p:nvPr/>
        </p:nvPicPr>
        <p:blipFill>
          <a:blip r:embed="rId2"/>
          <a:stretch/>
        </p:blipFill>
        <p:spPr>
          <a:xfrm>
            <a:off x="2371680" y="4164120"/>
            <a:ext cx="4400640" cy="1164960"/>
          </a:xfrm>
          <a:prstGeom prst="rect">
            <a:avLst/>
          </a:prstGeom>
          <a:ln w="0">
            <a:noFill/>
          </a:ln>
        </p:spPr>
      </p:pic>
      <p:pic>
        <p:nvPicPr>
          <p:cNvPr id="186" name="9" descr=""/>
          <p:cNvPicPr/>
          <p:nvPr/>
        </p:nvPicPr>
        <p:blipFill>
          <a:blip r:embed="rId3"/>
          <a:stretch/>
        </p:blipFill>
        <p:spPr>
          <a:xfrm>
            <a:off x="1971720" y="5362560"/>
            <a:ext cx="5429160" cy="1165320"/>
          </a:xfrm>
          <a:prstGeom prst="rect">
            <a:avLst/>
          </a:prstGeom>
          <a:ln w="0">
            <a:noFill/>
          </a:ln>
        </p:spPr>
      </p:pic>
      <p:pic>
        <p:nvPicPr>
          <p:cNvPr id="187" name="4" descr=""/>
          <p:cNvPicPr/>
          <p:nvPr/>
        </p:nvPicPr>
        <p:blipFill>
          <a:blip r:embed="rId4"/>
          <a:stretch/>
        </p:blipFill>
        <p:spPr>
          <a:xfrm>
            <a:off x="225360" y="1289160"/>
            <a:ext cx="1851120" cy="1164960"/>
          </a:xfrm>
          <a:prstGeom prst="rect">
            <a:avLst/>
          </a:prstGeom>
          <a:ln w="0">
            <a:noFill/>
          </a:ln>
        </p:spPr>
      </p:pic>
      <p:pic>
        <p:nvPicPr>
          <p:cNvPr id="188" name="5" descr=""/>
          <p:cNvPicPr/>
          <p:nvPr/>
        </p:nvPicPr>
        <p:blipFill>
          <a:blip r:embed="rId5"/>
          <a:stretch/>
        </p:blipFill>
        <p:spPr>
          <a:xfrm>
            <a:off x="2197080" y="1289160"/>
            <a:ext cx="3279960" cy="1164960"/>
          </a:xfrm>
          <a:prstGeom prst="rect">
            <a:avLst/>
          </a:prstGeom>
          <a:ln w="0">
            <a:noFill/>
          </a:ln>
        </p:spPr>
      </p:pic>
      <p:pic>
        <p:nvPicPr>
          <p:cNvPr id="189" name="6" descr=""/>
          <p:cNvPicPr/>
          <p:nvPr/>
        </p:nvPicPr>
        <p:blipFill>
          <a:blip r:embed="rId6"/>
          <a:stretch/>
        </p:blipFill>
        <p:spPr>
          <a:xfrm>
            <a:off x="5621400" y="1289160"/>
            <a:ext cx="325764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0720"/>
            <a:ext cx="77659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Software Installer (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11" descr=""/>
          <p:cNvPicPr/>
          <p:nvPr/>
        </p:nvPicPr>
        <p:blipFill>
          <a:blip r:embed="rId1"/>
          <a:stretch/>
        </p:blipFill>
        <p:spPr>
          <a:xfrm>
            <a:off x="2846520" y="2496960"/>
            <a:ext cx="3450960" cy="1165320"/>
          </a:xfrm>
          <a:prstGeom prst="rect">
            <a:avLst/>
          </a:prstGeom>
          <a:ln w="0">
            <a:noFill/>
          </a:ln>
        </p:spPr>
      </p:pic>
      <p:pic>
        <p:nvPicPr>
          <p:cNvPr id="192" name="12" descr=""/>
          <p:cNvPicPr/>
          <p:nvPr/>
        </p:nvPicPr>
        <p:blipFill>
          <a:blip r:embed="rId2"/>
          <a:stretch/>
        </p:blipFill>
        <p:spPr>
          <a:xfrm>
            <a:off x="2617920" y="3763800"/>
            <a:ext cx="3908160" cy="1521000"/>
          </a:xfrm>
          <a:prstGeom prst="rect">
            <a:avLst/>
          </a:prstGeom>
          <a:ln w="0">
            <a:noFill/>
          </a:ln>
        </p:spPr>
      </p:pic>
      <p:pic>
        <p:nvPicPr>
          <p:cNvPr id="193" name="13" descr=""/>
          <p:cNvPicPr/>
          <p:nvPr/>
        </p:nvPicPr>
        <p:blipFill>
          <a:blip r:embed="rId3"/>
          <a:stretch/>
        </p:blipFill>
        <p:spPr>
          <a:xfrm>
            <a:off x="3475080" y="5373720"/>
            <a:ext cx="2193840" cy="1165320"/>
          </a:xfrm>
          <a:prstGeom prst="rect">
            <a:avLst/>
          </a:prstGeom>
          <a:ln w="0">
            <a:noFill/>
          </a:ln>
        </p:spPr>
      </p:pic>
      <p:pic>
        <p:nvPicPr>
          <p:cNvPr id="194" name="10" descr=""/>
          <p:cNvPicPr/>
          <p:nvPr/>
        </p:nvPicPr>
        <p:blipFill>
          <a:blip r:embed="rId4"/>
          <a:stretch/>
        </p:blipFill>
        <p:spPr>
          <a:xfrm>
            <a:off x="450720" y="1225440"/>
            <a:ext cx="82076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TOPS Solve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65440"/>
            <a:ext cx="77659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lication developer constructs a CCA component that implements th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TOPS.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erfaces.  This component defines the algebraic system to be solved.  (See Appendix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ver and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PS.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onent can be combined using one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traditional programming langu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component scripting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ponent GUI such as provided by the Ccaffeine framework (SNL) … see examples in following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ver and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PS.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onent then collaborate to solve one or more algebraic problems. Complex applications will likely also couple several additional CCA com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95120"/>
            <a:ext cx="776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Component Generator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995040"/>
            <a:ext cx="7986600" cy="55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D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bel boilerplate server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 CCA port registration code that must be added to the Babel generated c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kefile that builds the compon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ly, applications simply need provide source code for the methods that define an algebraic linear or nonlinear probl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ython TOPSGenerator.p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(on Apple Mac OS 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ourier New"/>
              </a:rPr>
              <a:t>you may need python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ticular set of images below generated the second TOPS solver component exa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omponent nonlinear PDE using a structured mesh (driven cavity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amples/c++/E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Component Generator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s1" descr=""/>
          <p:cNvPicPr/>
          <p:nvPr/>
        </p:nvPicPr>
        <p:blipFill>
          <a:blip r:embed="rId1"/>
          <a:stretch/>
        </p:blipFill>
        <p:spPr>
          <a:xfrm>
            <a:off x="1965240" y="1886040"/>
            <a:ext cx="5211720" cy="2571840"/>
          </a:xfrm>
          <a:prstGeom prst="rect">
            <a:avLst/>
          </a:prstGeom>
          <a:ln w="0">
            <a:noFill/>
          </a:ln>
        </p:spPr>
      </p:pic>
      <p:pic>
        <p:nvPicPr>
          <p:cNvPr id="199" name="s2" descr=""/>
          <p:cNvPicPr/>
          <p:nvPr/>
        </p:nvPicPr>
        <p:blipFill>
          <a:blip r:embed="rId2"/>
          <a:stretch/>
        </p:blipFill>
        <p:spPr>
          <a:xfrm>
            <a:off x="1414440" y="4811760"/>
            <a:ext cx="2868480" cy="1292040"/>
          </a:xfrm>
          <a:prstGeom prst="rect">
            <a:avLst/>
          </a:prstGeom>
          <a:ln w="0">
            <a:noFill/>
          </a:ln>
        </p:spPr>
      </p:pic>
      <p:pic>
        <p:nvPicPr>
          <p:cNvPr id="200" name="s3" descr=""/>
          <p:cNvPicPr/>
          <p:nvPr/>
        </p:nvPicPr>
        <p:blipFill>
          <a:blip r:embed="rId3"/>
          <a:stretch/>
        </p:blipFill>
        <p:spPr>
          <a:xfrm>
            <a:off x="4522680" y="4811760"/>
            <a:ext cx="338292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35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Component Generator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s4" descr=""/>
          <p:cNvPicPr/>
          <p:nvPr/>
        </p:nvPicPr>
        <p:blipFill>
          <a:blip r:embed="rId1"/>
          <a:stretch/>
        </p:blipFill>
        <p:spPr>
          <a:xfrm>
            <a:off x="358920" y="1360440"/>
            <a:ext cx="4136760" cy="1749600"/>
          </a:xfrm>
          <a:prstGeom prst="rect">
            <a:avLst/>
          </a:prstGeom>
          <a:ln w="0">
            <a:noFill/>
          </a:ln>
        </p:spPr>
      </p:pic>
      <p:pic>
        <p:nvPicPr>
          <p:cNvPr id="203" name="s5" descr=""/>
          <p:cNvPicPr/>
          <p:nvPr/>
        </p:nvPicPr>
        <p:blipFill>
          <a:blip r:embed="rId2"/>
          <a:stretch/>
        </p:blipFill>
        <p:spPr>
          <a:xfrm>
            <a:off x="4802040" y="1360440"/>
            <a:ext cx="3954600" cy="1292400"/>
          </a:xfrm>
          <a:prstGeom prst="rect">
            <a:avLst/>
          </a:prstGeom>
          <a:ln w="0">
            <a:noFill/>
          </a:ln>
        </p:spPr>
      </p:pic>
      <p:pic>
        <p:nvPicPr>
          <p:cNvPr id="204" name="s6" descr=""/>
          <p:cNvPicPr/>
          <p:nvPr/>
        </p:nvPicPr>
        <p:blipFill>
          <a:blip r:embed="rId3"/>
          <a:stretch/>
        </p:blipFill>
        <p:spPr>
          <a:xfrm>
            <a:off x="584280" y="3436920"/>
            <a:ext cx="3908520" cy="1521000"/>
          </a:xfrm>
          <a:prstGeom prst="rect">
            <a:avLst/>
          </a:prstGeom>
          <a:ln w="0">
            <a:noFill/>
          </a:ln>
        </p:spPr>
      </p:pic>
      <p:pic>
        <p:nvPicPr>
          <p:cNvPr id="205" name="s7" descr=""/>
          <p:cNvPicPr/>
          <p:nvPr/>
        </p:nvPicPr>
        <p:blipFill>
          <a:blip r:embed="rId4"/>
          <a:stretch/>
        </p:blipFill>
        <p:spPr>
          <a:xfrm>
            <a:off x="4854600" y="3436920"/>
            <a:ext cx="3440160" cy="1292400"/>
          </a:xfrm>
          <a:prstGeom prst="rect">
            <a:avLst/>
          </a:prstGeom>
          <a:ln w="0">
            <a:noFill/>
          </a:ln>
        </p:spPr>
      </p:pic>
      <p:pic>
        <p:nvPicPr>
          <p:cNvPr id="206" name="s8" descr=""/>
          <p:cNvPicPr/>
          <p:nvPr/>
        </p:nvPicPr>
        <p:blipFill>
          <a:blip r:embed="rId5"/>
          <a:stretch/>
        </p:blipFill>
        <p:spPr>
          <a:xfrm>
            <a:off x="2781360" y="5200560"/>
            <a:ext cx="384012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Component Generator (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s10" descr=""/>
          <p:cNvPicPr/>
          <p:nvPr/>
        </p:nvPicPr>
        <p:blipFill>
          <a:blip r:embed="rId1"/>
          <a:stretch/>
        </p:blipFill>
        <p:spPr>
          <a:xfrm>
            <a:off x="3097080" y="2889360"/>
            <a:ext cx="2949840" cy="1749240"/>
          </a:xfrm>
          <a:prstGeom prst="rect">
            <a:avLst/>
          </a:prstGeom>
          <a:ln w="0">
            <a:noFill/>
          </a:ln>
        </p:spPr>
      </p:pic>
      <p:pic>
        <p:nvPicPr>
          <p:cNvPr id="209" name="s11" descr=""/>
          <p:cNvPicPr/>
          <p:nvPr/>
        </p:nvPicPr>
        <p:blipFill>
          <a:blip r:embed="rId2"/>
          <a:stretch/>
        </p:blipFill>
        <p:spPr>
          <a:xfrm>
            <a:off x="3097080" y="4762440"/>
            <a:ext cx="2949840" cy="1749600"/>
          </a:xfrm>
          <a:prstGeom prst="rect">
            <a:avLst/>
          </a:prstGeom>
          <a:ln w="0">
            <a:noFill/>
          </a:ln>
        </p:spPr>
      </p:pic>
      <p:pic>
        <p:nvPicPr>
          <p:cNvPr id="210" name="s9" descr=""/>
          <p:cNvPicPr/>
          <p:nvPr/>
        </p:nvPicPr>
        <p:blipFill>
          <a:blip r:embed="rId3"/>
          <a:stretch/>
        </p:blipFill>
        <p:spPr>
          <a:xfrm>
            <a:off x="2617920" y="1332000"/>
            <a:ext cx="390816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11200" y="15094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al Overview CCA Sli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01440" y="1752480"/>
            <a:ext cx="738036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4 slides provide an overview of how the CCA is enabling new approaches to scientific discovery.  Just FYI.  Use (or not) as you see fit.  The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de (CCA Overview) is intended primarily as background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57200" y="1521000"/>
            <a:ext cx="8238960" cy="1012680"/>
          </a:xfrm>
          <a:prstGeom prst="roundRect">
            <a:avLst>
              <a:gd name="adj" fmla="val 153"/>
            </a:avLst>
          </a:prstGeom>
          <a:solidFill>
            <a:srgbClr val="f2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37680" y="33300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CA provides component technology for high-performance compu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4800" y="6157800"/>
            <a:ext cx="8055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: S. Lefantzi, et al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ponent-Based Toolkit for Reacting Flows with High Order Spatial Discretizations on Structured Adaptively Refined Mesh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gress in Computational Fluid Dynamic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o app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121360" y="2674800"/>
            <a:ext cx="2955960" cy="2315880"/>
            <a:chOff x="5121360" y="2674800"/>
            <a:chExt cx="2955960" cy="231588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rcRect l="0" t="9384" r="12077" b="0"/>
            <a:stretch/>
          </p:blipFill>
          <p:spPr>
            <a:xfrm>
              <a:off x="5389560" y="2674800"/>
              <a:ext cx="241776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121360" y="4500720"/>
              <a:ext cx="29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PU load as a function of error for old (red) and new (blue) algorith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9480" y="1523880"/>
            <a:ext cx="826164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mon Component Architecture (CCA) has enabled the SciDAC Computational Facility for Reacting Flow Science (CFRFS) to create a plug-and-play toolkit for AMR-based simulations of combustion.  Recently, high-order discretizations were incorporated to drastically reduce resolution requirements and computation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93880" y="2773440"/>
            <a:ext cx="3332160" cy="2136600"/>
            <a:chOff x="893880" y="2773440"/>
            <a:chExt cx="3332160" cy="213660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893880" y="2773440"/>
              <a:ext cx="3332160" cy="177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"/>
            <p:cNvGrpSpPr/>
            <p:nvPr/>
          </p:nvGrpSpPr>
          <p:grpSpPr>
            <a:xfrm>
              <a:off x="914400" y="4614840"/>
              <a:ext cx="3171960" cy="295200"/>
              <a:chOff x="914400" y="4614840"/>
              <a:chExt cx="3171960" cy="295200"/>
            </a:xfrm>
          </p:grpSpPr>
          <p:sp>
            <p:nvSpPr>
              <p:cNvPr id="223" name=""/>
              <p:cNvSpPr/>
              <p:nvPr/>
            </p:nvSpPr>
            <p:spPr>
              <a:xfrm>
                <a:off x="914400" y="4614840"/>
                <a:ext cx="3171960" cy="246240"/>
              </a:xfrm>
              <a:prstGeom prst="roundRect">
                <a:avLst>
                  <a:gd name="adj" fmla="val 64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916200" y="4616280"/>
                <a:ext cx="3168720" cy="293760"/>
                <a:chOff x="916200" y="4616280"/>
                <a:chExt cx="3168720" cy="2937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920880" y="4616280"/>
                  <a:ext cx="3147840" cy="293760"/>
                </a:xfrm>
                <a:prstGeom prst="roundRect">
                  <a:avLst>
                    <a:gd name="adj" fmla="val 54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916200" y="4616280"/>
                  <a:ext cx="3168720" cy="292680"/>
                </a:xfrm>
                <a:prstGeom prst="roundRect">
                  <a:avLst>
                    <a:gd name="adj" fmla="val 54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3000"/>
                    </a:lnSpc>
                    <a:spcBef>
                      <a:spcPts val="451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anges confined to </a:t>
                  </a:r>
                  <a:r>
                    <a:rPr b="1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ne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component!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3511440" y="4297320"/>
              <a:ext cx="266760" cy="352440"/>
            </a:xfrm>
            <a:custGeom>
              <a:avLst/>
              <a:gdLst/>
              <a:ahLst/>
              <a:rect l="l" t="t" r="r" b="b"/>
              <a:pathLst>
                <a:path w="742" h="980">
                  <a:moveTo>
                    <a:pt x="301" y="979"/>
                  </a:moveTo>
                  <a:cubicBezTo>
                    <a:pt x="367" y="939"/>
                    <a:pt x="633" y="823"/>
                    <a:pt x="687" y="732"/>
                  </a:cubicBezTo>
                  <a:cubicBezTo>
                    <a:pt x="741" y="641"/>
                    <a:pt x="737" y="552"/>
                    <a:pt x="621" y="430"/>
                  </a:cubicBezTo>
                  <a:cubicBezTo>
                    <a:pt x="505" y="308"/>
                    <a:pt x="130" y="89"/>
                    <a:pt x="0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09480" y="5105520"/>
            <a:ext cx="8077320" cy="8859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abib Najm (CFRFS PI): “The CCA has provided us with a great framework for developing and maintaining reacting flow codes. By providing well-defined interfaces and encouraging a code structure based on a hierarchy of interchangeable, lightweight components, the CCA-based CFRFS toolkit has resolved significant challenges with handling reacting flow code complexity.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601992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CA enables new approaches to scientific disco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1679400"/>
            <a:ext cx="3962520" cy="40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quantum chemists at PNNL (NWChem package) and SNL (MPQC package), the CCA provides new capabili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team achieved cost reductions of up to 43% for molecular structure determinations via CCA-based access to optimization components from ANL’s Toolkit for Advanced Optimization (TAO) and parallel data management components from PNNL’s Global Array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other calculations, use of CCA-provided infrastructure has resulted in 10-fold speed-ups by facilitating implementation of a hybrid parallel algorith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4336920"/>
            <a:ext cx="4073400" cy="1450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WChem leader Theresa Windus:      “The hybrid algorithm would have been impractical to implement in a reasonable time without using the CCA; we see CCA-based technology as the foundation of future software development in chemistry.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8800" y="6091200"/>
            <a:ext cx="8050320" cy="6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s: J. P. Kenny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nent-Based Integration of Chemistry and Optimization Softw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. Computat. Chem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717 (2004); M. Krishnan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level Parallelism in Computational Chemistry using Common Component Architecture and Global Array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roceedings of SC2005, to app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601992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0" y="1542960"/>
          <a:ext cx="3886200" cy="27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542960"/>
                    <a:ext cx="388620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has seen widespread adoption in SciDAC and HPC in gener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76916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3000" indent="-333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areas participating in the CCA:</a:t>
            </a:r>
            <a:br>
              <a:rPr sz="28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stronomy, astrophysics, biological and medical simulations, chemically reacting flow, climate and weather modeling, combustion, computational chemistry, data management, fusion and plasma physics modeling, linear algebra, materials science, molecular electronics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anoscience, nuclear power plant simulations, structured adaptive meshes, unstructured meshes, and visualiz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agencies sponsoring software development using the CCA:</a:t>
            </a:r>
            <a:br>
              <a:rPr sz="28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 (SciDAC, Office of Science, NNSA/ASC), NASA, NIH, NSF, DoD, European Union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nent environ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mbine object-oriented design with the powerful features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l-defined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ming language interop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 compos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r in commercial computing but do not adequately serve HPC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mon Component Architecture (CCA) is specially designed to meet the needs of high-performance scientific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legacy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al change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d for component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is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gligible overhead for typical scientific applications (usually &lt;1%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parallel and distributed computing are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guages, data types, and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ing Fort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ing complex numbers and multi-dimensional arrays (as first-class objec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able to diverse parallel computing enviro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A specification and tools are developed by the CCA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open group that was established in 1998 as a grass-roots outgrowth of the DOE2000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9000" indent="-2764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enter for Component Technology for Terascale Simulation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et of the CCA For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bers receive partial support from the SciDAC initi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Linear Solve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30360"/>
            <a:ext cx="776592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lic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v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ing the line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ing the coefficient matrix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ing the right-hand-side vector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lic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TOPS solver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6400" y="5513400"/>
            <a:ext cx="776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iring diagram using the GUI within the Ccaffeine framework (SNL) depicts solving a linear system arising from a structured mesh problem.  The BoomerAMG solver within hypre (LLNL) is employed.  The large black boxes represent components.  The small light blue boxes deno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vides por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nctionality provided for use by another component); the small gold boxes denot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ses por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nctionality needed from another component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tops-hypre-withpalette" descr=""/>
          <p:cNvPicPr/>
          <p:nvPr/>
        </p:nvPicPr>
        <p:blipFill>
          <a:blip r:embed="rId1"/>
          <a:stretch/>
        </p:blipFill>
        <p:spPr>
          <a:xfrm>
            <a:off x="227160" y="3324240"/>
            <a:ext cx="87264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ilitating Experi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16000" y="2336760"/>
            <a:ext cx="6909840" cy="4214880"/>
            <a:chOff x="1116000" y="2336760"/>
            <a:chExt cx="6909840" cy="4214880"/>
          </a:xfrm>
        </p:grpSpPr>
        <p:pic>
          <p:nvPicPr>
            <p:cNvPr id="134" name="tops-linear2" descr=""/>
            <p:cNvPicPr/>
            <p:nvPr/>
          </p:nvPicPr>
          <p:blipFill>
            <a:blip r:embed="rId1"/>
            <a:stretch/>
          </p:blipFill>
          <p:spPr>
            <a:xfrm>
              <a:off x="1116000" y="2336760"/>
              <a:ext cx="6441840" cy="36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" name=""/>
            <p:cNvGrpSpPr/>
            <p:nvPr/>
          </p:nvGrpSpPr>
          <p:grpSpPr>
            <a:xfrm>
              <a:off x="2091960" y="3227400"/>
              <a:ext cx="5933880" cy="3324240"/>
              <a:chOff x="2091960" y="3227400"/>
              <a:chExt cx="5933880" cy="3324240"/>
            </a:xfrm>
          </p:grpSpPr>
          <p:sp>
            <p:nvSpPr>
              <p:cNvPr id="136" name=""/>
              <p:cNvSpPr/>
              <p:nvPr/>
            </p:nvSpPr>
            <p:spPr>
              <a:xfrm>
                <a:off x="3674520" y="4081320"/>
                <a:ext cx="4351320" cy="2470320"/>
              </a:xfrm>
              <a:prstGeom prst="borderCallout2">
                <a:avLst>
                  <a:gd name="adj1" fmla="val 18750"/>
                  <a:gd name="adj2" fmla="val -8333"/>
                  <a:gd name="adj3" fmla="val 4625"/>
                  <a:gd name="adj4" fmla="val -16527"/>
                  <a:gd name="adj5" fmla="val 51606"/>
                  <a:gd name="adj6" fmla="val -32287"/>
                </a:avLst>
              </a:prstGeom>
              <a:gradFill rotWithShape="0">
                <a:gsLst>
                  <a:gs pos="0">
                    <a:srgbClr val="ffffcc">
                      <a:alpha val="80392"/>
                    </a:srgbClr>
                  </a:gs>
                  <a:gs pos="100000">
                    <a:srgbClr val="6600ff">
                      <a:alpha val="40000"/>
                    </a:srgbClr>
                  </a:gs>
                </a:gsLst>
                <a:lin ang="5400000"/>
              </a:gradFill>
              <a:ln w="2844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Direct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Krylov Accelerators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 u="sng">
                    <a:solidFill>
                      <a:srgbClr val="ffffff"/>
                    </a:solidFill>
                    <a:uFillTx/>
                    <a:latin typeface="Times New Roman"/>
                  </a:rPr>
                  <a:t>Iterati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Sparse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Biconjugate gradient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BoomerAMG (hypr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SuperLU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Bi-cg-stab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ML (Trilinos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Spooles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Chebychev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Euclid (hypr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MUMPS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Conjugate gradient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Pilut  (hypr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UMFPACK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Conjugate residual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Promethe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DSCPACK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Flexible GMRES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Parasails (hypr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Dense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GMRES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SPA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PLAPACK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LSQR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PETS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Minres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Multigri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SYMML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60480"/>
                    <a:tab algn="l" pos="174600"/>
                    <a:tab algn="l" pos="1028880"/>
                    <a:tab algn="l" pos="1143000"/>
                    <a:tab algn="l" pos="26290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Transpose-free QM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91960" y="3227400"/>
                <a:ext cx="869760" cy="952560"/>
              </a:xfrm>
              <a:prstGeom prst="line">
                <a:avLst/>
              </a:prstGeom>
              <a:ln w="2844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2130120" y="4211280"/>
                <a:ext cx="807840" cy="98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792000" y="1378080"/>
            <a:ext cx="788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S solvers enable applications scientists to easily experiment with vast numbers of linear solvers without needing to make premature choices about data structures and algorithm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3440" y="6215040"/>
            <a:ext cx="24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[Link to on-line demo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659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S Nonlinear Solve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515960"/>
            <a:ext cx="774540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PS design makes the transition from linear to nonlinear problems straightforw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lic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vi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rt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ing the nonlinear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ing the residual vector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ing the associated Jacobian matrix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’(u)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lic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TOPS solver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49400" y="6054840"/>
            <a:ext cx="738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iring diagram depicts solving a nonlinear system arising from a structured mesh problem using a Newton-based nonlinear solver in PETSc (ANL)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tops-nonlinear-withpalette" descr=""/>
          <p:cNvPicPr/>
          <p:nvPr/>
        </p:nvPicPr>
        <p:blipFill>
          <a:blip r:embed="rId1"/>
          <a:stretch/>
        </p:blipFill>
        <p:spPr>
          <a:xfrm>
            <a:off x="285840" y="3911760"/>
            <a:ext cx="86058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8040"/>
            <a:ext cx="776592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xiliary TOPS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0400" y="1330200"/>
            <a:ext cx="4095720" cy="48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S Software Instal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an download and install a large variety of solver packa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es the difficulties of manual installation of the various underlying toolk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s that the toolkits are all built with the same compilers and compiler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TOPS Component Generator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generate the SIDL for your problem and all the boilerplate code needed to use it as a CCA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sentially, applications simply need to provide source code for the methods that define an algebraic linear or nonlinear probl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1" descr=""/>
          <p:cNvPicPr/>
          <p:nvPr/>
        </p:nvPicPr>
        <p:blipFill>
          <a:blip r:embed="rId2"/>
          <a:stretch/>
        </p:blipFill>
        <p:spPr>
          <a:xfrm>
            <a:off x="4795920" y="1415880"/>
            <a:ext cx="3747960" cy="2192400"/>
          </a:xfrm>
          <a:prstGeom prst="rect">
            <a:avLst/>
          </a:prstGeom>
          <a:ln w="0">
            <a:noFill/>
          </a:ln>
        </p:spPr>
      </p:pic>
      <p:pic>
        <p:nvPicPr>
          <p:cNvPr id="148" name="s1" descr=""/>
          <p:cNvPicPr/>
          <p:nvPr/>
        </p:nvPicPr>
        <p:blipFill>
          <a:blip r:embed="rId3"/>
          <a:stretch/>
        </p:blipFill>
        <p:spPr>
          <a:xfrm>
            <a:off x="4738680" y="4224240"/>
            <a:ext cx="4027320" cy="1987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89680" y="6107040"/>
            <a:ext cx="38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ee Appendix for more details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23720"/>
            <a:ext cx="776592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4840" y="1318680"/>
            <a:ext cx="82170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several linear and nonlinear examples 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mcs.anl.gov/scidac-tops/solver-components/top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c Bratu (solid fuel ignition) problem discretized with finite differences on a regular mesh in two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ve:      – Laplacian(u) – lambda*exp(u) = 0,    0 &lt; x,y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u=0 for x=0,x=1, y=0, y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lication code consists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DL definition of the System component (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file Ex1.sidl)</a:t>
            </a:r>
            <a:br>
              <a:rPr sz="1600"/>
            </a:br>
            <a:br>
              <a:rPr sz="1600"/>
            </a:b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package Ex1 version 0.0.0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class System implements-all TOPS.System.Compute.Residua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gov.cca.Componen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ff"/>
                </a:solidFill>
                <a:latin typeface="Courier New"/>
                <a:ea typeface="Courier New"/>
              </a:rPr>
              <a:t>gov.cca.ports.GoPort {}</a:t>
            </a:r>
            <a:r>
              <a:rPr b="0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3333ff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that defines the nonlinear equ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fi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1_System_Impl.c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e next slid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69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Code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ops-ex1_system_impl" descr=""/>
          <p:cNvPicPr/>
          <p:nvPr/>
        </p:nvPicPr>
        <p:blipFill>
          <a:blip r:embed="rId1"/>
          <a:stretch/>
        </p:blipFill>
        <p:spPr>
          <a:xfrm>
            <a:off x="2830680" y="1635120"/>
            <a:ext cx="5883120" cy="5060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16800" y="1314360"/>
            <a:ext cx="22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: Ex1_System_Impl.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57480" y="2884320"/>
            <a:ext cx="787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43080" y="4092480"/>
            <a:ext cx="787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080" y="2738520"/>
            <a:ext cx="188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TOPS solver 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8720" y="3797280"/>
            <a:ext cx="225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ease TOPS solver 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Status and Future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66680"/>
            <a:ext cx="776592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ete source code for TOPS components, along with the TOPS Software Installer, are avai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mcs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anl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6"/>
              </a:rPr>
              <a:t>gov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8"/>
              </a:rPr>
              <a:t>scidac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9"/>
              </a:rPr>
              <a:t>-tops/solver-components/top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work incl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ing TOPS components into scientific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CA infrastructure for computational quality of service to explore the adaptivity of TOPS solver parameters and algorithms in response to changing conditions during long-running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rfman</cp:lastModifiedBy>
  <dcterms:modified xsi:type="dcterms:W3CDTF">2005-11-07T10:53:53Z</dcterms:modified>
  <cp:revision>58</cp:revision>
  <dc:subject/>
  <dc:title>Instructions</dc:title>
</cp:coreProperties>
</file>