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8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8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7240"/>
            <a:ext cx="2130480" cy="317520"/>
            <a:chOff x="0" y="6537240"/>
            <a:chExt cx="2130480" cy="317520"/>
          </a:xfrm>
        </p:grpSpPr>
        <p:sp>
          <p:nvSpPr>
            <p:cNvPr id="1" name=""/>
            <p:cNvSpPr/>
            <p:nvPr/>
          </p:nvSpPr>
          <p:spPr>
            <a:xfrm>
              <a:off x="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78640"/>
              <a:ext cx="213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124080" y="6537240"/>
            <a:ext cx="2892600" cy="317520"/>
            <a:chOff x="3124080" y="6537240"/>
            <a:chExt cx="2892600" cy="317520"/>
          </a:xfrm>
        </p:grpSpPr>
        <p:sp>
          <p:nvSpPr>
            <p:cNvPr id="4" name=""/>
            <p:cNvSpPr/>
            <p:nvPr/>
          </p:nvSpPr>
          <p:spPr>
            <a:xfrm>
              <a:off x="3124080" y="6537240"/>
              <a:ext cx="289260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124080" y="6578640"/>
              <a:ext cx="2892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7010280" y="6537240"/>
            <a:ext cx="2130480" cy="317520"/>
            <a:chOff x="7010280" y="6537240"/>
            <a:chExt cx="2130480" cy="317520"/>
          </a:xfrm>
        </p:grpSpPr>
        <p:sp>
          <p:nvSpPr>
            <p:cNvPr id="7" name=""/>
            <p:cNvSpPr/>
            <p:nvPr/>
          </p:nvSpPr>
          <p:spPr>
            <a:xfrm>
              <a:off x="701028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10280" y="6578280"/>
              <a:ext cx="2130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fld id="{3E431BBF-DA4F-4D35-961A-788C0F3FAA35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.sidl.html" TargetMode="External"/><Relationship Id="rId2" Type="http://schemas.openxmlformats.org/officeDocument/2006/relationships/hyperlink" Target="http://www-unix.mcs.anl.gov/scidac-tops/solver-components/examples/c++/ex1/ex1.cc" TargetMode="External"/><Relationship Id="rId3" Type="http://schemas.openxmlformats.org/officeDocument/2006/relationships/hyperlink" Target="http://www-unix.mcs.anl.gov/scidac-tops/solver-components/examples/c++/ex1/Ex1_r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-unix.mcs.anl.gov/scidac-tops/solver-components/topsccafe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generator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cs.anl.gov/scidac-tops/solver-components/tops.html" TargetMode="External"/><Relationship Id="rId2" Type="http://schemas.openxmlformats.org/officeDocument/2006/relationships/hyperlink" Target="http://www.mcs.anl.gov/scidac-tops/solver-components/tops.html" TargetMode="External"/><Relationship Id="rId3" Type="http://schemas.openxmlformats.org/officeDocument/2006/relationships/hyperlink" Target="http://www.mcs.anl.gov/scidac-tops/solver-components/tops.html" TargetMode="External"/><Relationship Id="rId4" Type="http://schemas.openxmlformats.org/officeDocument/2006/relationships/hyperlink" Target="http://www.mcs.anl.gov/scidac-tops/solver-components/tops.html" TargetMode="External"/><Relationship Id="rId5" Type="http://schemas.openxmlformats.org/officeDocument/2006/relationships/hyperlink" Target="http://www.mcs.anl.gov/scidac-tops/solver-components/tops.html" TargetMode="External"/><Relationship Id="rId6" Type="http://schemas.openxmlformats.org/officeDocument/2006/relationships/hyperlink" Target="http://www.mcs.anl.gov/scidac-tops/solver-components/tops.html" TargetMode="External"/><Relationship Id="rId7" Type="http://schemas.openxmlformats.org/officeDocument/2006/relationships/hyperlink" Target="http://www.mcs.anl.gov/scidac-tops/solver-components/tops.html" TargetMode="External"/><Relationship Id="rId8" Type="http://schemas.openxmlformats.org/officeDocument/2006/relationships/hyperlink" Target="http://www.mcs.anl.gov/scidac-tops/solver-components/tops.html" TargetMode="External"/><Relationship Id="rId9" Type="http://schemas.openxmlformats.org/officeDocument/2006/relationships/hyperlink" Target="http://www.mcs.anl.gov/scidac-tops/solver-components/tops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0680" y="1504440"/>
            <a:ext cx="7870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nguage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ftware components for the scalable solution of larg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linear algebraic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ing from eith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ructur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structured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u)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:R    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t with the Common Component Architecture (C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use SIDL (Scientific Interface Definition Language) and the Babel (LLNL) language interoperabil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terfaces to facilitate easy experimentation with different solvers developed by different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TT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A) SciDA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64800" y="2664000"/>
            <a:ext cx="907920" cy="459720"/>
            <a:chOff x="3664800" y="2664000"/>
            <a:chExt cx="907920" cy="459720"/>
          </a:xfrm>
        </p:grpSpPr>
        <p:sp>
          <p:nvSpPr>
            <p:cNvPr id="50" name=""/>
            <p:cNvSpPr/>
            <p:nvPr/>
          </p:nvSpPr>
          <p:spPr>
            <a:xfrm>
              <a:off x="3838680" y="3044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4800" y="26640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        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08280" y="5613120"/>
            <a:ext cx="2743200" cy="569880"/>
            <a:chOff x="4508280" y="5613120"/>
            <a:chExt cx="2743200" cy="569880"/>
          </a:xfrm>
        </p:grpSpPr>
        <p:grpSp>
          <p:nvGrpSpPr>
            <p:cNvPr id="53" name=""/>
            <p:cNvGrpSpPr/>
            <p:nvPr/>
          </p:nvGrpSpPr>
          <p:grpSpPr>
            <a:xfrm>
              <a:off x="4508280" y="5613120"/>
              <a:ext cx="586800" cy="568080"/>
              <a:chOff x="4508280" y="5613120"/>
              <a:chExt cx="586800" cy="568080"/>
            </a:xfrm>
          </p:grpSpPr>
          <p:sp>
            <p:nvSpPr>
              <p:cNvPr id="54" name=""/>
              <p:cNvSpPr/>
              <p:nvPr/>
            </p:nvSpPr>
            <p:spPr>
              <a:xfrm>
                <a:off x="4520160" y="5619960"/>
                <a:ext cx="570240" cy="554760"/>
              </a:xfrm>
              <a:prstGeom prst="ellipse">
                <a:avLst/>
              </a:prstGeom>
              <a:solidFill>
                <a:srgbClr val="faec24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6576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170" y="170"/>
                    </a:moveTo>
                    <a:lnTo>
                      <a:pt x="0" y="170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17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0800" y="575712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170" y="0"/>
                    </a:moveTo>
                    <a:lnTo>
                      <a:pt x="170" y="169"/>
                    </a:lnTo>
                    <a:lnTo>
                      <a:pt x="0" y="0"/>
                    </a:lnTo>
                    <a:lnTo>
                      <a:pt x="170" y="0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5160" y="569556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224" h="114">
                    <a:moveTo>
                      <a:pt x="0" y="113"/>
                    </a:moveTo>
                    <a:lnTo>
                      <a:pt x="109" y="0"/>
                    </a:lnTo>
                    <a:lnTo>
                      <a:pt x="223" y="113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806720" y="5613120"/>
                <a:ext cx="180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4800" y="5652000"/>
                <a:ext cx="151560" cy="104760"/>
              </a:xfrm>
              <a:custGeom>
                <a:avLst/>
                <a:gdLst/>
                <a:ahLst/>
                <a:rect l="l" t="t" r="r" b="b"/>
                <a:pathLst>
                  <a:path w="281" h="202">
                    <a:moveTo>
                      <a:pt x="168" y="201"/>
                    </a:moveTo>
                    <a:lnTo>
                      <a:pt x="280" y="86"/>
                    </a:lnTo>
                    <a:lnTo>
                      <a:pt x="83" y="0"/>
                    </a:lnTo>
                    <a:lnTo>
                      <a:pt x="0" y="201"/>
                    </a:lnTo>
                    <a:lnTo>
                      <a:pt x="168" y="201"/>
                    </a:lnTo>
                    <a:lnTo>
                      <a:pt x="168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00160" y="5738400"/>
                <a:ext cx="25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47320" y="5658840"/>
                <a:ext cx="252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744800" y="5725080"/>
                <a:ext cx="61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59840" y="5699880"/>
                <a:ext cx="3996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08880" y="565200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114" y="201"/>
                    </a:moveTo>
                    <a:lnTo>
                      <a:pt x="0" y="86"/>
                    </a:lnTo>
                    <a:lnTo>
                      <a:pt x="200" y="0"/>
                    </a:lnTo>
                    <a:lnTo>
                      <a:pt x="284" y="201"/>
                    </a:lnTo>
                    <a:lnTo>
                      <a:pt x="114" y="201"/>
                    </a:lnTo>
                    <a:lnTo>
                      <a:pt x="114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2920" y="573840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70800" y="5658840"/>
                <a:ext cx="18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20760" y="572508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905720" y="5699880"/>
                <a:ext cx="586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54800" y="575460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0" y="0"/>
                    </a:moveTo>
                    <a:lnTo>
                      <a:pt x="170" y="0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591080" y="5695560"/>
                <a:ext cx="7128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95760" y="5841720"/>
                <a:ext cx="6156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112" y="227"/>
                    </a:moveTo>
                    <a:lnTo>
                      <a:pt x="0" y="114"/>
                    </a:lnTo>
                    <a:lnTo>
                      <a:pt x="112" y="0"/>
                    </a:lnTo>
                    <a:lnTo>
                      <a:pt x="112" y="227"/>
                    </a:lnTo>
                    <a:lnTo>
                      <a:pt x="112" y="227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508280" y="5903280"/>
                <a:ext cx="96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50760" y="590328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2" h="281">
                    <a:moveTo>
                      <a:pt x="201" y="113"/>
                    </a:moveTo>
                    <a:lnTo>
                      <a:pt x="87" y="0"/>
                    </a:lnTo>
                    <a:lnTo>
                      <a:pt x="0" y="196"/>
                    </a:lnTo>
                    <a:lnTo>
                      <a:pt x="201" y="280"/>
                    </a:lnTo>
                    <a:lnTo>
                      <a:pt x="201" y="113"/>
                    </a:lnTo>
                    <a:lnTo>
                      <a:pt x="201" y="113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41120" y="6003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8320" y="5960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19520" y="591228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600800" y="5996880"/>
                <a:ext cx="180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8600" y="575712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1" h="281">
                    <a:moveTo>
                      <a:pt x="200" y="168"/>
                    </a:moveTo>
                    <a:lnTo>
                      <a:pt x="86" y="280"/>
                    </a:lnTo>
                    <a:lnTo>
                      <a:pt x="0" y="84"/>
                    </a:lnTo>
                    <a:lnTo>
                      <a:pt x="200" y="0"/>
                    </a:lnTo>
                    <a:lnTo>
                      <a:pt x="200" y="168"/>
                    </a:lnTo>
                    <a:lnTo>
                      <a:pt x="200" y="168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41120" y="5798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58320" y="5841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619520" y="584172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800" y="5757120"/>
                <a:ext cx="180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5480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0" y="170"/>
                    </a:moveTo>
                    <a:lnTo>
                      <a:pt x="0" y="0"/>
                    </a:lnTo>
                    <a:lnTo>
                      <a:pt x="170" y="170"/>
                    </a:ln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593600" y="6049080"/>
                <a:ext cx="684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43000" y="6049080"/>
                <a:ext cx="119880" cy="61560"/>
              </a:xfrm>
              <a:custGeom>
                <a:avLst/>
                <a:gdLst/>
                <a:ahLst/>
                <a:rect l="l" t="t" r="r" b="b"/>
                <a:pathLst>
                  <a:path w="223" h="118">
                    <a:moveTo>
                      <a:pt x="222" y="0"/>
                    </a:moveTo>
                    <a:lnTo>
                      <a:pt x="111" y="117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04200" y="6108480"/>
                <a:ext cx="252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04200" y="604908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280" h="201">
                    <a:moveTo>
                      <a:pt x="111" y="0"/>
                    </a:moveTo>
                    <a:lnTo>
                      <a:pt x="0" y="115"/>
                    </a:lnTo>
                    <a:lnTo>
                      <a:pt x="196" y="200"/>
                    </a:lnTo>
                    <a:lnTo>
                      <a:pt x="279" y="0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4910760" y="6024240"/>
                <a:ext cx="180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86576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13920" y="6081120"/>
                <a:ext cx="42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900680" y="610200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52640" y="604908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81" h="201">
                    <a:moveTo>
                      <a:pt x="167" y="0"/>
                    </a:moveTo>
                    <a:lnTo>
                      <a:pt x="280" y="115"/>
                    </a:lnTo>
                    <a:lnTo>
                      <a:pt x="82" y="200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4695120" y="6024240"/>
                <a:ext cx="252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74300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42640" y="608112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54800" y="610200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57920" y="6049080"/>
                <a:ext cx="5184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7920" y="5841720"/>
                <a:ext cx="6084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0" y="0"/>
                    </a:moveTo>
                    <a:lnTo>
                      <a:pt x="112" y="112"/>
                    </a:lnTo>
                    <a:lnTo>
                      <a:pt x="0" y="2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19120" y="590328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57920" y="5759280"/>
                <a:ext cx="104040" cy="14364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0" y="167"/>
                    </a:moveTo>
                    <a:lnTo>
                      <a:pt x="112" y="279"/>
                    </a:lnTo>
                    <a:lnTo>
                      <a:pt x="195" y="83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934160" y="5798160"/>
                <a:ext cx="4932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014440" y="584604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988520" y="5843160"/>
                <a:ext cx="252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2280" y="576180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7920" y="5903280"/>
                <a:ext cx="104040" cy="145800"/>
              </a:xfrm>
              <a:custGeom>
                <a:avLst/>
                <a:gdLst/>
                <a:ahLst/>
                <a:rect l="l" t="t" r="r" b="b"/>
                <a:pathLst>
                  <a:path w="196" h="281">
                    <a:moveTo>
                      <a:pt x="0" y="112"/>
                    </a:moveTo>
                    <a:lnTo>
                      <a:pt x="112" y="0"/>
                    </a:lnTo>
                    <a:lnTo>
                      <a:pt x="195" y="197"/>
                    </a:lnTo>
                    <a:lnTo>
                      <a:pt x="0" y="280"/>
                    </a:lnTo>
                    <a:lnTo>
                      <a:pt x="0" y="112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934160" y="600372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014440" y="596268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88520" y="591444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012280" y="599688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957920" y="5695560"/>
                <a:ext cx="4932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041800" y="5613480"/>
              <a:ext cx="1103040" cy="569520"/>
              <a:chOff x="5041800" y="5613480"/>
              <a:chExt cx="1103040" cy="569520"/>
            </a:xfrm>
          </p:grpSpPr>
          <p:sp>
            <p:nvSpPr>
              <p:cNvPr id="112" name=""/>
              <p:cNvSpPr/>
              <p:nvPr/>
            </p:nvSpPr>
            <p:spPr>
              <a:xfrm>
                <a:off x="5041800" y="5613480"/>
                <a:ext cx="1103040" cy="56952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041800" y="5613480"/>
                <a:ext cx="1100520" cy="566640"/>
                <a:chOff x="5041800" y="5613480"/>
                <a:chExt cx="1100520" cy="566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041800" y="5613480"/>
                  <a:ext cx="1100520" cy="566640"/>
                </a:xfrm>
                <a:prstGeom prst="roundRect">
                  <a:avLst>
                    <a:gd name="adj" fmla="val 40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041800" y="5613480"/>
                  <a:ext cx="1097280" cy="566280"/>
                  <a:chOff x="5041800" y="5613480"/>
                  <a:chExt cx="1097280" cy="5662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041800" y="5613480"/>
                    <a:ext cx="1097280" cy="56628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041800" y="5613480"/>
                    <a:ext cx="734760" cy="37800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d45512"/>
                        </a:solidFill>
                        <a:latin typeface="Times New Roman"/>
                      </a:rPr>
                      <a:t>C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" name=""/>
            <p:cNvGrpSpPr/>
            <p:nvPr/>
          </p:nvGrpSpPr>
          <p:grpSpPr>
            <a:xfrm>
              <a:off x="5028480" y="5905440"/>
              <a:ext cx="2223000" cy="261720"/>
              <a:chOff x="5028480" y="5905440"/>
              <a:chExt cx="2223000" cy="261720"/>
            </a:xfrm>
          </p:grpSpPr>
          <p:sp>
            <p:nvSpPr>
              <p:cNvPr id="119" name=""/>
              <p:cNvSpPr/>
              <p:nvPr/>
            </p:nvSpPr>
            <p:spPr>
              <a:xfrm>
                <a:off x="5073840" y="5905440"/>
                <a:ext cx="2177640" cy="261720"/>
              </a:xfrm>
              <a:prstGeom prst="roundRect">
                <a:avLst>
                  <a:gd name="adj" fmla="val 8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5028480" y="5905440"/>
                <a:ext cx="2220480" cy="259200"/>
                <a:chOff x="5028480" y="5905440"/>
                <a:chExt cx="2220480" cy="259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073840" y="5905440"/>
                  <a:ext cx="2175120" cy="259200"/>
                </a:xfrm>
                <a:prstGeom prst="roundRect">
                  <a:avLst>
                    <a:gd name="adj" fmla="val 88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028480" y="5905440"/>
                  <a:ext cx="2217240" cy="258840"/>
                  <a:chOff x="5028480" y="5905440"/>
                  <a:chExt cx="2217240" cy="2588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073840" y="5905440"/>
                    <a:ext cx="2171880" cy="258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028480" y="5905440"/>
                    <a:ext cx="2141280" cy="231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d45512"/>
                        </a:solidFill>
                        <a:latin typeface="Gill Sans"/>
                      </a:rPr>
                      <a:t>Common Component Architectur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5557680"/>
            <a:ext cx="14479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.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Component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CA Overvi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39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ops-system1" descr=""/>
          <p:cNvPicPr/>
          <p:nvPr/>
        </p:nvPicPr>
        <p:blipFill>
          <a:blip r:embed="rId1"/>
          <a:stretch/>
        </p:blipFill>
        <p:spPr>
          <a:xfrm>
            <a:off x="1486080" y="900000"/>
            <a:ext cx="6172200" cy="5743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764320" y="5827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ops-system2" descr=""/>
          <p:cNvPicPr/>
          <p:nvPr/>
        </p:nvPicPr>
        <p:blipFill>
          <a:blip r:embed="rId1"/>
          <a:stretch/>
        </p:blipFill>
        <p:spPr>
          <a:xfrm>
            <a:off x="685800" y="1733400"/>
            <a:ext cx="8035920" cy="446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18360" y="50259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tops-system3" descr=""/>
          <p:cNvPicPr/>
          <p:nvPr/>
        </p:nvPicPr>
        <p:blipFill>
          <a:blip r:embed="rId1"/>
          <a:stretch/>
        </p:blipFill>
        <p:spPr>
          <a:xfrm>
            <a:off x="1014480" y="1220760"/>
            <a:ext cx="7111800" cy="504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5400" y="5238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ops-system4" descr=""/>
          <p:cNvPicPr/>
          <p:nvPr/>
        </p:nvPicPr>
        <p:blipFill>
          <a:blip r:embed="rId1"/>
          <a:stretch/>
        </p:blipFill>
        <p:spPr>
          <a:xfrm>
            <a:off x="803160" y="1325520"/>
            <a:ext cx="7548840" cy="519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04160" y="50101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ops-system5" descr=""/>
          <p:cNvPicPr/>
          <p:nvPr/>
        </p:nvPicPr>
        <p:blipFill>
          <a:blip r:embed="rId1"/>
          <a:stretch/>
        </p:blipFill>
        <p:spPr>
          <a:xfrm>
            <a:off x="353880" y="1544760"/>
            <a:ext cx="84711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6592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load TOPSInstaller.py and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Installer.p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pythonw may be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using the EasyGui.py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questions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1" descr=""/>
          <p:cNvPicPr/>
          <p:nvPr/>
        </p:nvPicPr>
        <p:blipFill>
          <a:blip r:embed="rId1"/>
          <a:stretch/>
        </p:blipFill>
        <p:spPr>
          <a:xfrm>
            <a:off x="2257560" y="3567240"/>
            <a:ext cx="4628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61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3" descr=""/>
          <p:cNvPicPr/>
          <p:nvPr/>
        </p:nvPicPr>
        <p:blipFill>
          <a:blip r:embed="rId1"/>
          <a:stretch/>
        </p:blipFill>
        <p:spPr>
          <a:xfrm>
            <a:off x="2028960" y="3252960"/>
            <a:ext cx="5154480" cy="3554280"/>
          </a:xfrm>
          <a:prstGeom prst="rect">
            <a:avLst/>
          </a:prstGeom>
          <a:ln w="0">
            <a:noFill/>
          </a:ln>
        </p:spPr>
      </p:pic>
      <p:pic>
        <p:nvPicPr>
          <p:cNvPr id="182" name="2" descr=""/>
          <p:cNvPicPr/>
          <p:nvPr/>
        </p:nvPicPr>
        <p:blipFill>
          <a:blip r:embed="rId2"/>
          <a:stretch/>
        </p:blipFill>
        <p:spPr>
          <a:xfrm>
            <a:off x="1558800" y="974880"/>
            <a:ext cx="6093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7" descr=""/>
          <p:cNvPicPr/>
          <p:nvPr/>
        </p:nvPicPr>
        <p:blipFill>
          <a:blip r:embed="rId1"/>
          <a:stretch/>
        </p:blipFill>
        <p:spPr>
          <a:xfrm>
            <a:off x="1971720" y="2687760"/>
            <a:ext cx="5200560" cy="1164960"/>
          </a:xfrm>
          <a:prstGeom prst="rect">
            <a:avLst/>
          </a:prstGeom>
          <a:ln w="0">
            <a:noFill/>
          </a:ln>
        </p:spPr>
      </p:pic>
      <p:pic>
        <p:nvPicPr>
          <p:cNvPr id="185" name="8" descr=""/>
          <p:cNvPicPr/>
          <p:nvPr/>
        </p:nvPicPr>
        <p:blipFill>
          <a:blip r:embed="rId2"/>
          <a:stretch/>
        </p:blipFill>
        <p:spPr>
          <a:xfrm>
            <a:off x="2371680" y="4164120"/>
            <a:ext cx="4400640" cy="1164960"/>
          </a:xfrm>
          <a:prstGeom prst="rect">
            <a:avLst/>
          </a:prstGeom>
          <a:ln w="0">
            <a:noFill/>
          </a:ln>
        </p:spPr>
      </p:pic>
      <p:pic>
        <p:nvPicPr>
          <p:cNvPr id="186" name="9" descr=""/>
          <p:cNvPicPr/>
          <p:nvPr/>
        </p:nvPicPr>
        <p:blipFill>
          <a:blip r:embed="rId3"/>
          <a:stretch/>
        </p:blipFill>
        <p:spPr>
          <a:xfrm>
            <a:off x="1971720" y="5362560"/>
            <a:ext cx="542916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4" descr=""/>
          <p:cNvPicPr/>
          <p:nvPr/>
        </p:nvPicPr>
        <p:blipFill>
          <a:blip r:embed="rId4"/>
          <a:stretch/>
        </p:blipFill>
        <p:spPr>
          <a:xfrm>
            <a:off x="225360" y="1289160"/>
            <a:ext cx="1851120" cy="1164960"/>
          </a:xfrm>
          <a:prstGeom prst="rect">
            <a:avLst/>
          </a:prstGeom>
          <a:ln w="0">
            <a:noFill/>
          </a:ln>
        </p:spPr>
      </p:pic>
      <p:pic>
        <p:nvPicPr>
          <p:cNvPr id="188" name="5" descr=""/>
          <p:cNvPicPr/>
          <p:nvPr/>
        </p:nvPicPr>
        <p:blipFill>
          <a:blip r:embed="rId5"/>
          <a:stretch/>
        </p:blipFill>
        <p:spPr>
          <a:xfrm>
            <a:off x="2197080" y="1289160"/>
            <a:ext cx="3279960" cy="1164960"/>
          </a:xfrm>
          <a:prstGeom prst="rect">
            <a:avLst/>
          </a:prstGeom>
          <a:ln w="0">
            <a:noFill/>
          </a:ln>
        </p:spPr>
      </p:pic>
      <p:pic>
        <p:nvPicPr>
          <p:cNvPr id="189" name="6" descr=""/>
          <p:cNvPicPr/>
          <p:nvPr/>
        </p:nvPicPr>
        <p:blipFill>
          <a:blip r:embed="rId6"/>
          <a:stretch/>
        </p:blipFill>
        <p:spPr>
          <a:xfrm>
            <a:off x="5621400" y="1289160"/>
            <a:ext cx="32576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11" descr=""/>
          <p:cNvPicPr/>
          <p:nvPr/>
        </p:nvPicPr>
        <p:blipFill>
          <a:blip r:embed="rId1"/>
          <a:stretch/>
        </p:blipFill>
        <p:spPr>
          <a:xfrm>
            <a:off x="2846520" y="2496960"/>
            <a:ext cx="34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92" name="12" descr=""/>
          <p:cNvPicPr/>
          <p:nvPr/>
        </p:nvPicPr>
        <p:blipFill>
          <a:blip r:embed="rId2"/>
          <a:stretch/>
        </p:blipFill>
        <p:spPr>
          <a:xfrm>
            <a:off x="2617920" y="3763800"/>
            <a:ext cx="3908160" cy="1521000"/>
          </a:xfrm>
          <a:prstGeom prst="rect">
            <a:avLst/>
          </a:prstGeom>
          <a:ln w="0">
            <a:noFill/>
          </a:ln>
        </p:spPr>
      </p:pic>
      <p:pic>
        <p:nvPicPr>
          <p:cNvPr id="193" name="13" descr=""/>
          <p:cNvPicPr/>
          <p:nvPr/>
        </p:nvPicPr>
        <p:blipFill>
          <a:blip r:embed="rId3"/>
          <a:stretch/>
        </p:blipFill>
        <p:spPr>
          <a:xfrm>
            <a:off x="3475080" y="5373720"/>
            <a:ext cx="2193840" cy="1165320"/>
          </a:xfrm>
          <a:prstGeom prst="rect">
            <a:avLst/>
          </a:prstGeom>
          <a:ln w="0">
            <a:noFill/>
          </a:ln>
        </p:spPr>
      </p:pic>
      <p:pic>
        <p:nvPicPr>
          <p:cNvPr id="194" name="10" descr=""/>
          <p:cNvPicPr/>
          <p:nvPr/>
        </p:nvPicPr>
        <p:blipFill>
          <a:blip r:embed="rId4"/>
          <a:stretch/>
        </p:blipFill>
        <p:spPr>
          <a:xfrm>
            <a:off x="450720" y="1225440"/>
            <a:ext cx="8207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65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developer constructs a CCA component that implements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s.  This component defines the algebraic system to be solved.  (See Append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can be combined using on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traditional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ponent script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onent GUI such as provided by the Ccaffeine framework (SNL) … see examples in following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then collaborate to solve one or more algebraic problems. Complex applications will likely also couple several additional CCA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6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995040"/>
            <a:ext cx="7986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bel boilerplate server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CA port registration code that must be added to the Babel generated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kefile that builds th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, applications simply need provide source code for the methods that define an algebraic linear or nonlinear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Generator.p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you may need python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cular set of images below generated the second TOPS solver component 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mponent nonlinear PDE using a structured mesh (driven cavit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s/c++/E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s1" descr=""/>
          <p:cNvPicPr/>
          <p:nvPr/>
        </p:nvPicPr>
        <p:blipFill>
          <a:blip r:embed="rId1"/>
          <a:stretch/>
        </p:blipFill>
        <p:spPr>
          <a:xfrm>
            <a:off x="1965240" y="1886040"/>
            <a:ext cx="521172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s2" descr=""/>
          <p:cNvPicPr/>
          <p:nvPr/>
        </p:nvPicPr>
        <p:blipFill>
          <a:blip r:embed="rId2"/>
          <a:stretch/>
        </p:blipFill>
        <p:spPr>
          <a:xfrm>
            <a:off x="1414440" y="4811760"/>
            <a:ext cx="2868480" cy="1292040"/>
          </a:xfrm>
          <a:prstGeom prst="rect">
            <a:avLst/>
          </a:prstGeom>
          <a:ln w="0">
            <a:noFill/>
          </a:ln>
        </p:spPr>
      </p:pic>
      <p:pic>
        <p:nvPicPr>
          <p:cNvPr id="200" name="s3" descr=""/>
          <p:cNvPicPr/>
          <p:nvPr/>
        </p:nvPicPr>
        <p:blipFill>
          <a:blip r:embed="rId3"/>
          <a:stretch/>
        </p:blipFill>
        <p:spPr>
          <a:xfrm>
            <a:off x="4522680" y="4811760"/>
            <a:ext cx="33829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4" descr=""/>
          <p:cNvPicPr/>
          <p:nvPr/>
        </p:nvPicPr>
        <p:blipFill>
          <a:blip r:embed="rId1"/>
          <a:stretch/>
        </p:blipFill>
        <p:spPr>
          <a:xfrm>
            <a:off x="358920" y="1360440"/>
            <a:ext cx="4136760" cy="1749600"/>
          </a:xfrm>
          <a:prstGeom prst="rect">
            <a:avLst/>
          </a:prstGeom>
          <a:ln w="0">
            <a:noFill/>
          </a:ln>
        </p:spPr>
      </p:pic>
      <p:pic>
        <p:nvPicPr>
          <p:cNvPr id="203" name="s5" descr=""/>
          <p:cNvPicPr/>
          <p:nvPr/>
        </p:nvPicPr>
        <p:blipFill>
          <a:blip r:embed="rId2"/>
          <a:stretch/>
        </p:blipFill>
        <p:spPr>
          <a:xfrm>
            <a:off x="4802040" y="1360440"/>
            <a:ext cx="3954600" cy="1292400"/>
          </a:xfrm>
          <a:prstGeom prst="rect">
            <a:avLst/>
          </a:prstGeom>
          <a:ln w="0">
            <a:noFill/>
          </a:ln>
        </p:spPr>
      </p:pic>
      <p:pic>
        <p:nvPicPr>
          <p:cNvPr id="204" name="s6" descr=""/>
          <p:cNvPicPr/>
          <p:nvPr/>
        </p:nvPicPr>
        <p:blipFill>
          <a:blip r:embed="rId3"/>
          <a:stretch/>
        </p:blipFill>
        <p:spPr>
          <a:xfrm>
            <a:off x="584280" y="3436920"/>
            <a:ext cx="3908520" cy="1521000"/>
          </a:xfrm>
          <a:prstGeom prst="rect">
            <a:avLst/>
          </a:prstGeom>
          <a:ln w="0">
            <a:noFill/>
          </a:ln>
        </p:spPr>
      </p:pic>
      <p:pic>
        <p:nvPicPr>
          <p:cNvPr id="205" name="s7" descr=""/>
          <p:cNvPicPr/>
          <p:nvPr/>
        </p:nvPicPr>
        <p:blipFill>
          <a:blip r:embed="rId4"/>
          <a:stretch/>
        </p:blipFill>
        <p:spPr>
          <a:xfrm>
            <a:off x="4854600" y="3436920"/>
            <a:ext cx="3440160" cy="1292400"/>
          </a:xfrm>
          <a:prstGeom prst="rect">
            <a:avLst/>
          </a:prstGeom>
          <a:ln w="0">
            <a:noFill/>
          </a:ln>
        </p:spPr>
      </p:pic>
      <p:pic>
        <p:nvPicPr>
          <p:cNvPr id="206" name="s8" descr=""/>
          <p:cNvPicPr/>
          <p:nvPr/>
        </p:nvPicPr>
        <p:blipFill>
          <a:blip r:embed="rId5"/>
          <a:stretch/>
        </p:blipFill>
        <p:spPr>
          <a:xfrm>
            <a:off x="2781360" y="520056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10" descr=""/>
          <p:cNvPicPr/>
          <p:nvPr/>
        </p:nvPicPr>
        <p:blipFill>
          <a:blip r:embed="rId1"/>
          <a:stretch/>
        </p:blipFill>
        <p:spPr>
          <a:xfrm>
            <a:off x="3097080" y="2889360"/>
            <a:ext cx="2949840" cy="1749240"/>
          </a:xfrm>
          <a:prstGeom prst="rect">
            <a:avLst/>
          </a:prstGeom>
          <a:ln w="0">
            <a:noFill/>
          </a:ln>
        </p:spPr>
      </p:pic>
      <p:pic>
        <p:nvPicPr>
          <p:cNvPr id="209" name="s11" descr=""/>
          <p:cNvPicPr/>
          <p:nvPr/>
        </p:nvPicPr>
        <p:blipFill>
          <a:blip r:embed="rId2"/>
          <a:stretch/>
        </p:blipFill>
        <p:spPr>
          <a:xfrm>
            <a:off x="3097080" y="4762440"/>
            <a:ext cx="2949840" cy="1749600"/>
          </a:xfrm>
          <a:prstGeom prst="rect">
            <a:avLst/>
          </a:prstGeom>
          <a:ln w="0">
            <a:noFill/>
          </a:ln>
        </p:spPr>
      </p:pic>
      <p:pic>
        <p:nvPicPr>
          <p:cNvPr id="210" name="s9" descr=""/>
          <p:cNvPicPr/>
          <p:nvPr/>
        </p:nvPicPr>
        <p:blipFill>
          <a:blip r:embed="rId3"/>
          <a:stretch/>
        </p:blipFill>
        <p:spPr>
          <a:xfrm>
            <a:off x="2617920" y="1332000"/>
            <a:ext cx="39081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1200" y="15094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verview CCA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01440" y="1752480"/>
            <a:ext cx="73803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4 slides provide an overview of how the CCA is enabling new approaches to scientific discovery.  Just FYI.  Use (or not) as you see fit. 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(CCA Overview) is intended primarily as background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1000"/>
            <a:ext cx="8238960" cy="1012680"/>
          </a:xfrm>
          <a:prstGeom prst="roundRect">
            <a:avLst>
              <a:gd name="adj" fmla="val 153"/>
            </a:avLst>
          </a:prstGeom>
          <a:solidFill>
            <a:srgbClr val="f2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7680" y="3330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provides component technology for high-performance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4800" y="6157800"/>
            <a:ext cx="8055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: S. Lefantzi,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ponent-Based Toolkit for Reacting Flows with High Order Spatial Discretizations on Structured Adaptively Refined Mes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gress in Computational Fluid Dyna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21360" y="2674800"/>
            <a:ext cx="2955960" cy="2315880"/>
            <a:chOff x="5121360" y="2674800"/>
            <a:chExt cx="2955960" cy="2315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9384" r="12077" b="0"/>
            <a:stretch/>
          </p:blipFill>
          <p:spPr>
            <a:xfrm>
              <a:off x="5389560" y="2674800"/>
              <a:ext cx="24177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21360" y="4500720"/>
              <a:ext cx="29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 load as a function of error for old (red) and new (blue) 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523880"/>
            <a:ext cx="8261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on Component Architecture (CCA) has enabled the SciDAC Computational Facility for Reacting Flow Science (CFRFS) to create a plug-and-play toolkit for AMR-based simulations of combustion.  Recently, high-order discretizations were incorporated to drastically reduce resolution requirements and computatio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93880" y="2773440"/>
            <a:ext cx="3332160" cy="2136600"/>
            <a:chOff x="893880" y="2773440"/>
            <a:chExt cx="3332160" cy="21366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893880" y="2773440"/>
              <a:ext cx="333216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914400" y="4614840"/>
              <a:ext cx="3171960" cy="295200"/>
              <a:chOff x="914400" y="4614840"/>
              <a:chExt cx="3171960" cy="295200"/>
            </a:xfrm>
          </p:grpSpPr>
          <p:sp>
            <p:nvSpPr>
              <p:cNvPr id="223" name=""/>
              <p:cNvSpPr/>
              <p:nvPr/>
            </p:nvSpPr>
            <p:spPr>
              <a:xfrm>
                <a:off x="914400" y="4614840"/>
                <a:ext cx="3171960" cy="2462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916200" y="4616280"/>
                <a:ext cx="3168720" cy="293760"/>
                <a:chOff x="916200" y="4616280"/>
                <a:chExt cx="3168720" cy="293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920880" y="4616280"/>
                  <a:ext cx="3147840" cy="29376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6200" y="4616280"/>
                  <a:ext cx="3168720" cy="29268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nges confined to </a:t>
                  </a: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n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component!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511440" y="4297320"/>
              <a:ext cx="266760" cy="352440"/>
            </a:xfrm>
            <a:custGeom>
              <a:avLst/>
              <a:gdLst/>
              <a:ahLst/>
              <a:rect l="l" t="t" r="r" b="b"/>
              <a:pathLst>
                <a:path w="742" h="980">
                  <a:moveTo>
                    <a:pt x="301" y="979"/>
                  </a:moveTo>
                  <a:cubicBezTo>
                    <a:pt x="367" y="939"/>
                    <a:pt x="633" y="823"/>
                    <a:pt x="687" y="732"/>
                  </a:cubicBezTo>
                  <a:cubicBezTo>
                    <a:pt x="741" y="641"/>
                    <a:pt x="737" y="552"/>
                    <a:pt x="621" y="430"/>
                  </a:cubicBezTo>
                  <a:cubicBezTo>
                    <a:pt x="505" y="308"/>
                    <a:pt x="130" y="89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09480" y="5105520"/>
            <a:ext cx="8077320" cy="885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bib Najm (CFRFS PI): “The CCA has provided us with a great framework for developing and maintaining reacting flow codes. By providing well-defined interfaces and encouraging a code structure based on a hierarchy of interchangeable, lightweight components, the CCA-based CFRFS toolkit has resolved significant challenges with handling reacting flow code complexity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enables new approaches to scientific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9400"/>
            <a:ext cx="39625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quantum chemists at PNNL (NWChem package) and SNL (MPQC package), the CCA provides new cap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eam achieved cost reductions of up to 43% for molecular structure determinations via CCA-based access to optimization components from ANL’s Toolkit for Advanced Optimization (TAO) and parallel data management components from PNNL’s Global Arr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other calculations, use of CCA-provided infrastructure has resulted in 10-fold speed-ups by facilitating implementation of a hybrid parallel algori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336920"/>
            <a:ext cx="4073400" cy="145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Chem leader Theresa Windus:      “The hybrid algorithm would have been impractical to implement in a reasonable time without using the CCA; we see CCA-based technology as the foundation of future software development in chemistry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" y="6091200"/>
            <a:ext cx="80503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s: J. P. Kenny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-Based Integration of Chemistry and Optimization Soft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. Computat. 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717 (2004); M. Krishna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level Parallelism in Computational Chemistry using Common Component Architecture and Global Arr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oceedings of SC2005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0" y="1542960"/>
          <a:ext cx="388620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42960"/>
                    <a:ext cx="38862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has seen widespread adoption in SciDAC and HPC in gene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916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participating in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, astrophysics, biological and medical simulations, chemically reacting flow, climate and weather modeling, combustion, computational chemistry, data management, fusion and plasma physics modeling, linear algebra, materials science, molecular electronics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noscience, nuclear power plant simulations, structured adaptive meshes, unstructured meshes, and visu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gencies sponsoring software development using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 (SciDAC, Office of Science, NNSA/ASC), NASA, NIH, NSF, DoD, European Uni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environ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mbine object-oriented design with the powerful feature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defined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ng language 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compo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r in commercial computing but do not adequately serve HP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on Component Architecture (CCA) is specially designed to meet the needs of high-performance scientif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legac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chang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for component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s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gible overhead for typical scientific applications (usually &lt;1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arallel and distributed computing ar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, data types, and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For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complex numbers and multi-dimensional arrays (as first-class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to diverse parallel computing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A specification and tools are developed by the CCA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pen group that was established in 1998 as a grass-roots outgrowth of the DOE2000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nter for Component Technology for Terascale Simul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the CCA For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s receive partial support from the SciDAC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30360"/>
            <a:ext cx="77659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ing the line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coefficient matrix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right-hand-side vecto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400" y="5513400"/>
            <a:ext cx="776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using the GUI within the Ccaffeine framework (SNL) depicts solving a linear system arising from a structured mesh problem.  The BoomerAMG solver within hypre (LLNL) is employed.  The large black boxes represent components.  The small light blue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provided for use by another component); the small gold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needed from another component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ops-hypre-withpalette" descr=""/>
          <p:cNvPicPr/>
          <p:nvPr/>
        </p:nvPicPr>
        <p:blipFill>
          <a:blip r:embed="rId1"/>
          <a:stretch/>
        </p:blipFill>
        <p:spPr>
          <a:xfrm>
            <a:off x="227160" y="3324240"/>
            <a:ext cx="8726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ing Experi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2336760"/>
            <a:ext cx="6909840" cy="4214880"/>
            <a:chOff x="1116000" y="2336760"/>
            <a:chExt cx="6909840" cy="4214880"/>
          </a:xfrm>
        </p:grpSpPr>
        <p:pic>
          <p:nvPicPr>
            <p:cNvPr id="134" name="tops-linear2" descr=""/>
            <p:cNvPicPr/>
            <p:nvPr/>
          </p:nvPicPr>
          <p:blipFill>
            <a:blip r:embed="rId1"/>
            <a:stretch/>
          </p:blipFill>
          <p:spPr>
            <a:xfrm>
              <a:off x="1116000" y="2336760"/>
              <a:ext cx="6441840" cy="36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2091960" y="3227400"/>
              <a:ext cx="5933880" cy="3324240"/>
              <a:chOff x="2091960" y="3227400"/>
              <a:chExt cx="5933880" cy="332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3674520" y="4081320"/>
                <a:ext cx="4351320" cy="2470320"/>
              </a:xfrm>
              <a:prstGeom prst="borderCallout2">
                <a:avLst>
                  <a:gd name="adj1" fmla="val 18750"/>
                  <a:gd name="adj2" fmla="val -8333"/>
                  <a:gd name="adj3" fmla="val 4625"/>
                  <a:gd name="adj4" fmla="val -16527"/>
                  <a:gd name="adj5" fmla="val 51606"/>
                  <a:gd name="adj6" fmla="val -32287"/>
                </a:avLst>
              </a:prstGeom>
              <a:gradFill rotWithShape="0">
                <a:gsLst>
                  <a:gs pos="0">
                    <a:srgbClr val="ffffcc">
                      <a:alpha val="80392"/>
                    </a:srgbClr>
                  </a:gs>
                  <a:gs pos="100000">
                    <a:srgbClr val="6600ff">
                      <a:alpha val="40000"/>
                    </a:srgbClr>
                  </a:gs>
                </a:gsLst>
                <a:lin ang="5400000"/>
              </a:gradFill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Direct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Krylov Accelerator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Itera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r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oomerAMG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erLU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-cg-stab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L (Trilino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ooles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hebychev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uclid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MP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ilut 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MF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residual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rometh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SC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Flexible 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arasails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en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LAPACK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LSQR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ETS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in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lti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YMML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Transpose-free QM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91960" y="3227400"/>
                <a:ext cx="869760" cy="952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130120" y="4211280"/>
                <a:ext cx="807840" cy="98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792000" y="1378080"/>
            <a:ext cx="788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S solvers enable applications scientists to easily experiment with vast numbers of linear solvers without needing to make premature choices about data structures and algorith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440" y="62150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[Link to on-line dem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Non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15960"/>
            <a:ext cx="7745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S design makes the transition from linear to nonlinear problems straight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ing the nonlinea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residual vector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associated Jacobian matrix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’(u)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9400" y="605484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depicts solving a nonlinear system arising from a structured mesh problem using a Newton-based nonlinear solver in PETSc (ANL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ops-nonlinear-withpalette" descr=""/>
          <p:cNvPicPr/>
          <p:nvPr/>
        </p:nvPicPr>
        <p:blipFill>
          <a:blip r:embed="rId1"/>
          <a:stretch/>
        </p:blipFill>
        <p:spPr>
          <a:xfrm>
            <a:off x="285840" y="3911760"/>
            <a:ext cx="8605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659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TOPS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400" y="1330200"/>
            <a:ext cx="409572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download and install a large variety of solver pack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s the difficulties of manual installation of the various underlying tool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that the toolkits are all built with the same compilers and compiler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 Component Generat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rate the SIDL for your problem and all the boilerplate code needed to use it as a CCA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tially, applications simply need to provide source code for the methods that define an algebraic linear or nonlinear probl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" descr=""/>
          <p:cNvPicPr/>
          <p:nvPr/>
        </p:nvPicPr>
        <p:blipFill>
          <a:blip r:embed="rId2"/>
          <a:stretch/>
        </p:blipFill>
        <p:spPr>
          <a:xfrm>
            <a:off x="4795920" y="1415880"/>
            <a:ext cx="3747960" cy="2192400"/>
          </a:xfrm>
          <a:prstGeom prst="rect">
            <a:avLst/>
          </a:prstGeom>
          <a:ln w="0">
            <a:noFill/>
          </a:ln>
        </p:spPr>
      </p:pic>
      <p:pic>
        <p:nvPicPr>
          <p:cNvPr id="148" name="s1" descr=""/>
          <p:cNvPicPr/>
          <p:nvPr/>
        </p:nvPicPr>
        <p:blipFill>
          <a:blip r:embed="rId3"/>
          <a:stretch/>
        </p:blipFill>
        <p:spPr>
          <a:xfrm>
            <a:off x="4738680" y="4224240"/>
            <a:ext cx="4027320" cy="1987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9680" y="61070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Appendix for more detail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659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4840" y="1318680"/>
            <a:ext cx="8217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veral linear and nonlinear example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cs.anl.gov/scidac-tops/solver-components/to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Bratu (solid fuel ignition) problem discretized with finite differences on a regular mesh in two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     – Laplacian(u) – lambda*exp(u) = 0,    0 &lt; x,y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u=0 for x=0,x=1, y=0, y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ode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L definition of the System component (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le Ex1.sidl)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package Ex1 version 0.0.0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ass System implements-all TOPS.System.Compute.Residu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Compon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ports.GoPort {}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that defines the nonlinear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1_System_Impl.c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ops-ex1_system_impl" descr=""/>
          <p:cNvPicPr/>
          <p:nvPr/>
        </p:nvPicPr>
        <p:blipFill>
          <a:blip r:embed="rId1"/>
          <a:stretch/>
        </p:blipFill>
        <p:spPr>
          <a:xfrm>
            <a:off x="2830680" y="1635120"/>
            <a:ext cx="5883120" cy="506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6800" y="131436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: Ex1_System_Impl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57480" y="288432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409248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27385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720" y="379728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and Future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66680"/>
            <a:ext cx="77659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source code for TOPS components, along with the TOPS Software Installer,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c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anl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cidac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-tops/solver-components/top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ng TOPS components into scientific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CA infrastructure for computational quality of service to explore the adaptivity of TOPS solver parameters and algorithms in response to changing conditions during long-running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fman</cp:lastModifiedBy>
  <dcterms:modified xsi:type="dcterms:W3CDTF">2005-11-07T10:53:53Z</dcterms:modified>
  <cp:revision>58</cp:revision>
  <dc:subject/>
  <dc:title>Instructions</dc:title>
</cp:coreProperties>
</file>