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3520" y="38390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208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6448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9580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3352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6448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9580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79502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208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3520" y="38390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208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6448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99580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3352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6448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99580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79502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208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69920"/>
            <a:ext cx="9144000" cy="5788080"/>
          </a:xfrm>
          <a:prstGeom prst="rect">
            <a:avLst/>
          </a:prstGeom>
          <a:gradFill rotWithShape="0">
            <a:gsLst>
              <a:gs pos="0">
                <a:srgbClr val="e4eaff"/>
              </a:gs>
              <a:gs pos="100000">
                <a:srgbClr val="f2f5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24a91"/>
              </a:buClr>
              <a:buFont typeface="Geneva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eneva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eneva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990360"/>
            <a:ext cx="9142560" cy="152280"/>
            <a:chOff x="0" y="990360"/>
            <a:chExt cx="9142560" cy="152280"/>
          </a:xfrm>
        </p:grpSpPr>
        <p:sp>
          <p:nvSpPr>
            <p:cNvPr id="3" name=""/>
            <p:cNvSpPr/>
            <p:nvPr/>
          </p:nvSpPr>
          <p:spPr>
            <a:xfrm flipV="1">
              <a:off x="0" y="989640"/>
              <a:ext cx="4571280" cy="15228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4571280" y="989640"/>
              <a:ext cx="4571280" cy="15228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 flipV="1">
            <a:off x="4287960" y="6476760"/>
            <a:ext cx="3789360" cy="6120"/>
          </a:xfrm>
          <a:prstGeom prst="line">
            <a:avLst/>
          </a:prstGeom>
          <a:ln w="6480">
            <a:solidFill>
              <a:srgbClr val="0044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677440" y="6586560"/>
            <a:ext cx="31428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1B2B-673F-4B71-9E73-F0802E15804F}" type="slidenum">
              <a:rPr b="0" lang="en-US" sz="9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8" name=""/>
          <p:cNvSpPr/>
          <p:nvPr/>
        </p:nvSpPr>
        <p:spPr>
          <a:xfrm>
            <a:off x="533520" y="6324480"/>
            <a:ext cx="3733560" cy="304920"/>
          </a:xfrm>
          <a:prstGeom prst="rect">
            <a:avLst/>
          </a:prstGeom>
          <a:noFill/>
          <a:ln w="0">
            <a:noFill/>
          </a:ln>
          <a:effectLst>
            <a:outerShdw dist="610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33520" y="6248520"/>
            <a:ext cx="3352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533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6959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24a91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4a91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6033240" y="6661080"/>
            <a:ext cx="1639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nter for Applied Scientific Computin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8121600" y="6235560"/>
            <a:ext cx="533520" cy="51300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3"/>
          <a:stretch/>
        </p:blipFill>
        <p:spPr>
          <a:xfrm>
            <a:off x="7869240" y="174600"/>
            <a:ext cx="782640" cy="714240"/>
          </a:xfrm>
          <a:prstGeom prst="rect">
            <a:avLst/>
          </a:prstGeom>
          <a:ln w="0">
            <a:noFill/>
          </a:ln>
        </p:spPr>
      </p:pic>
      <p:pic>
        <p:nvPicPr>
          <p:cNvPr id="15" name="" descr=""/>
          <p:cNvPicPr/>
          <p:nvPr/>
        </p:nvPicPr>
        <p:blipFill>
          <a:blip r:embed="rId4"/>
          <a:stretch/>
        </p:blipFill>
        <p:spPr>
          <a:xfrm>
            <a:off x="7516800" y="152280"/>
            <a:ext cx="16272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1828800"/>
            <a:ext cx="9144000" cy="1980720"/>
            <a:chOff x="0" y="1828800"/>
            <a:chExt cx="9144000" cy="1980720"/>
          </a:xfrm>
        </p:grpSpPr>
        <p:sp>
          <p:nvSpPr>
            <p:cNvPr id="53" name=""/>
            <p:cNvSpPr/>
            <p:nvPr/>
          </p:nvSpPr>
          <p:spPr>
            <a:xfrm flipV="1">
              <a:off x="0" y="1828440"/>
              <a:ext cx="4572000" cy="198072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4572000" y="1828440"/>
              <a:ext cx="4572000" cy="198072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0" y="3886200"/>
            <a:ext cx="9144000" cy="76320"/>
            <a:chOff x="0" y="3886200"/>
            <a:chExt cx="9144000" cy="76320"/>
          </a:xfrm>
        </p:grpSpPr>
        <p:sp>
          <p:nvSpPr>
            <p:cNvPr id="56" name=""/>
            <p:cNvSpPr/>
            <p:nvPr/>
          </p:nvSpPr>
          <p:spPr>
            <a:xfrm flipV="1">
              <a:off x="0" y="3886200"/>
              <a:ext cx="4572000" cy="7632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572000" y="3886200"/>
              <a:ext cx="4572000" cy="7632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0" y="1676160"/>
            <a:ext cx="9144000" cy="75960"/>
            <a:chOff x="0" y="1676160"/>
            <a:chExt cx="9144000" cy="75960"/>
          </a:xfrm>
        </p:grpSpPr>
        <p:sp>
          <p:nvSpPr>
            <p:cNvPr id="59" name=""/>
            <p:cNvSpPr/>
            <p:nvPr/>
          </p:nvSpPr>
          <p:spPr>
            <a:xfrm flipV="1">
              <a:off x="0" y="1675440"/>
              <a:ext cx="4572000" cy="7596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72000" y="1675440"/>
              <a:ext cx="4572000" cy="7596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7120" y="18921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6019920"/>
            <a:ext cx="647712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28840" y="6573960"/>
            <a:ext cx="265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24a91"/>
                </a:solidFill>
                <a:latin typeface="Arial"/>
              </a:rPr>
              <a:t>Lawrence Livermore National Labora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ftr" idx="2"/>
          </p:nvPr>
        </p:nvSpPr>
        <p:spPr>
          <a:xfrm>
            <a:off x="304560" y="6016680"/>
            <a:ext cx="84582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124a91"/>
                </a:solidFill>
                <a:latin typeface="Times New Roman"/>
              </a:defRPr>
            </a:lvl1pPr>
          </a:lstStyle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24a91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960720" y="4113360"/>
            <a:ext cx="1136880" cy="1039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352680" y="3962520"/>
            <a:ext cx="3081600" cy="10411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24a91"/>
              </a:buClr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24a91"/>
              </a:buClr>
              <a:buFont typeface="Geneva CE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neva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neva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7120" y="18921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aster Datalog for ROSE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10/3/2007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39560" y="5199120"/>
            <a:ext cx="655308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"/>
              </a:rPr>
              <a:t>Jeremiah J. Willcock</a:t>
            </a: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erformance Measures x.x, x.x, and x.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Mod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ny given point in a rule, each variable can have one of two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means that the variable is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s that it is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 variable in a subgoal bind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bound variables and wildcards can be used in ne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rimitive tables have restrictions on what modes they can use (example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=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res that one of the variables is bo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Examining a rule to determine its mod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s examined from left to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variables start out moded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dcard has mode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variables used in the left side of the rule must end up as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p(+), rule obeys range restr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(B)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r(–), B becomes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(A, B, C)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f(–, +, –), A and C become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\+ g(_, C)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g(_, 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(D, B, _).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f(–, +, _), D becomes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Primitive tabl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tables are built in (through includ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only support limited mode combinations, and (except for =) do not support n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can vary widely based on what modes a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uses which iterate through memory pools if you 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st of primitive tables is in rose.P (for ROSE constructs) and arith.P (for arithmet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s are usually similar to AST node names; the main node is the leftmost argument and the children are the other arg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thmetic is special – more on that l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lk to me if you want more – they are easy to a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Performance issu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w tricks to get good query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keep tables as small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include elements which will not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hat tables are computed independently of any later queries o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pre-filter some arguments if you know that all lookups will have a certain restr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good modes (requiring no or little iteration); most AST node tables and all user-defined tables can query all table elements, but avoid doing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Performance of switch without default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template “compass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include "rose.P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StatementCopy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StatementCopy(N) :- switchStatement(N, _, _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ancNoSwitchEndingAtDefault(node, 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ncNoSwitch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EndingAtDefault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A, C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efaultStatement(C, _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A, C), \+ switchStatementCopy(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ncNoSwitch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EndingAtDefault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A, C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ancNoSwitchEndingAtDefault(B, C)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A, B), \+ switchStatementCopy(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WithDefault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WithDefault(S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Statement(S, _, _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S, C), ancNoSwitchEndingAtDefault(C, _)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No test for defaul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WithoutDefault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WithoutDefault(S) :- switchStatement(S, _, _), \+ switchWithDefault(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?- switchWithoutDefault(S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ssParameter(“SwitchWithoutDefault.errorString”, ErrString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ssError(S, “SwitchWithoutDefault”, ErrStri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Good mod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p(A), q(B), r(A, B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ies all elements of p and q, then filters using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p(A), r(A, B), q(B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ies only some elements of r, then filters using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r(A, B), p(A), q(B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ies elements of r, then filters using p and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A = B, p(A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Won’t comp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\+ p(A), r(A, B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Won’t comp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parent(B, A), switchStatement(A, _, _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switchStatement(A, _, _), parent(B, A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Simple arithmetic example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solve quadratic eq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template “basic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include “arith.P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declare qsolve(double, double, double, dou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qsolve(A, B, C, X)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sc is B*B – 4*A*C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X is ((0.0 – B) + plusMinus * sqrt(Disc)) / (2.0 * 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clare plusMinus(dou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lusMinus(1.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lusMinus(-1.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on’t compile – the compiler doesn’t have values for A, B, and C going into the definition of qsolve, so it can’t compute Disc or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The solution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declare qsolveNeeded(double, double, dou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declare qsolve(double, double, double, dou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qsolve(A, B, C, X)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qsolveNeeded(A, B, C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This binds A, B,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sc is B*B – 4*A*C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X is ((0.0 – B) + plusMinus * sqrt(Disc)) / (2.0 * 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you need to insert elements into qsolveNeeded in order to enable q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simple form of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gic s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be very tedious; compilers can do it, th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creases performance of tables which have few elements actually used but many comp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Conclusion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log can be used to write efficient ROSE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latively simple implementation can generate high-quality code, if users are careful in writing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 implementations can add features and more performance within the same basic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ystem will be available soon (probably to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pha- or beta-quality software, but doe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to play with it and feedback would be apprec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Why use Datalog to write ROSE analyses?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log-based analyses are easier to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t of details of ROSE are handled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tructures are kept and efficiently que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most as good as writing by 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memory pools directly for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optimizations can be added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 and control flow information can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add more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++ code can be called easily from Dat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Datalog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log is a subset of Prolog used for querying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symbols ar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are guaranteed to ter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think about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rograms are hard to write in a terminating way in Pro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of rules and clauses does not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it can affect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mplementation compiles Datalog into efficient C++ code, often using ROSE to access 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Syntax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s start with lowercase le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start with uppercase letters or under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core itself is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entities in program (all end in perio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include “foo.P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declare table(type1, type2, 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obj1, obj2, 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V) :- q(V, W), r(W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y(V), compassError(V, “c”, “bad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s start with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itive table definitions are also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More on rul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ght side of a rule (or query) can contain a few kinds of go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ableName(A, B, c,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\+ tableName(A,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itive table declarations create various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include “rose.P” and “arith.P” to ge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e.P includes access to ROSE ASTs and control flow graphs – talk to me if you need more than are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.P includes double-precision arithm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Range restriction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 part of Dat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variable which appears on the left side of a rule must appear non-negated on the righ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q(A, B), r(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q(A, B), \+ r(B, _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, B) :- q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\+ q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Stratified negation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log systems with negation often include a stratification restr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ule cannot refer to itself (directly or indirectly) inside a ne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w(A, _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(A) :- z(A, B), \+ p(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\+ p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r(A, B), \+ p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r(A), \+ s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(B) :- t(B), \+ p(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Example: switch without default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template “compass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include "rose.P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StatementCopy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StatementCopy(N) :- switchStatement(N, _, _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ancNoSwitchEndingAtDefault(node, 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ncNoSwitchEndingAtDefault(A, C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efaultStatement(C, _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A, C), \+ switchStatementCopy(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ncNoSwitchEndingAtDefault(A, C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ncNoSwitchEndingAtDefault(B, C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A, B), \+ switchStatementCopy(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WithDefault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WithDefault(S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Statement(S, _, _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S, C), ancNoSwitchEndingAtDefault(C, _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WithoutDefault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WithoutDefault(S) :- switchStatement(S, _, _), \+ switchWithDefault(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?- switchWithoutDefault(S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ssParameter(“SwitchWithoutDefault.errorString”, ErrString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ssError(S, “SwitchWithoutDefault”, ErrStri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The implementation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tabl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strongly connected components and topologically sor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a good order to compute th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recursive groups of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tables as STL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functions to insert into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function to compute all of th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ve rules are more compl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s triggered on insertion into particular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remiah Willcock</cp:lastModifiedBy>
  <cp:lastPrinted>2007-09-19T00:12:24Z</cp:lastPrinted>
  <dcterms:modified xsi:type="dcterms:W3CDTF">2007-10-05T20:56:24Z</dcterms:modified>
  <cp:revision>57</cp:revision>
  <dc:subject/>
  <dc:title>Faster Datalog for ROSE 10/3/2007</dc:title>
</cp:coreProperties>
</file>