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644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958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35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644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958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50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644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958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644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958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50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69920"/>
            <a:ext cx="9144000" cy="5788080"/>
          </a:xfrm>
          <a:prstGeom prst="rect">
            <a:avLst/>
          </a:prstGeom>
          <a:gradFill rotWithShape="0">
            <a:gsLst>
              <a:gs pos="0">
                <a:srgbClr val="e4eaff"/>
              </a:gs>
              <a:gs pos="100000">
                <a:srgbClr val="f2f5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24a91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990360"/>
            <a:ext cx="9142560" cy="152280"/>
            <a:chOff x="0" y="990360"/>
            <a:chExt cx="9142560" cy="152280"/>
          </a:xfrm>
        </p:grpSpPr>
        <p:sp>
          <p:nvSpPr>
            <p:cNvPr id="3" name=""/>
            <p:cNvSpPr/>
            <p:nvPr/>
          </p:nvSpPr>
          <p:spPr>
            <a:xfrm flipV="1">
              <a:off x="0" y="989640"/>
              <a:ext cx="4571280" cy="15228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4571280" y="989640"/>
              <a:ext cx="4571280" cy="15228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 flipV="1">
            <a:off x="4287960" y="6476760"/>
            <a:ext cx="3789360" cy="6120"/>
          </a:xfrm>
          <a:prstGeom prst="line">
            <a:avLst/>
          </a:prstGeom>
          <a:ln w="6480">
            <a:solidFill>
              <a:srgbClr val="004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77440" y="6586560"/>
            <a:ext cx="3142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4719-5F5B-4AE7-A3E0-38188DB30F1E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" name=""/>
          <p:cNvSpPr/>
          <p:nvPr/>
        </p:nvSpPr>
        <p:spPr>
          <a:xfrm>
            <a:off x="533520" y="6324480"/>
            <a:ext cx="3733560" cy="304920"/>
          </a:xfrm>
          <a:prstGeom prst="rect">
            <a:avLst/>
          </a:prstGeom>
          <a:noFill/>
          <a:ln w="0">
            <a:noFill/>
          </a:ln>
          <a:effectLst>
            <a:outerShdw dist="610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33520" y="6248520"/>
            <a:ext cx="335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33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6959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24a91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4a9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033240" y="6661080"/>
            <a:ext cx="1639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121600" y="6235560"/>
            <a:ext cx="533520" cy="51300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3"/>
          <a:stretch/>
        </p:blipFill>
        <p:spPr>
          <a:xfrm>
            <a:off x="7869240" y="174600"/>
            <a:ext cx="782640" cy="71424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4"/>
          <a:stretch/>
        </p:blipFill>
        <p:spPr>
          <a:xfrm>
            <a:off x="7516800" y="152280"/>
            <a:ext cx="16272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1828800"/>
            <a:ext cx="9144000" cy="1980720"/>
            <a:chOff x="0" y="1828800"/>
            <a:chExt cx="9144000" cy="1980720"/>
          </a:xfrm>
        </p:grpSpPr>
        <p:sp>
          <p:nvSpPr>
            <p:cNvPr id="53" name=""/>
            <p:cNvSpPr/>
            <p:nvPr/>
          </p:nvSpPr>
          <p:spPr>
            <a:xfrm flipV="1">
              <a:off x="0" y="1828440"/>
              <a:ext cx="4572000" cy="19807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572000" y="1828440"/>
              <a:ext cx="4572000" cy="19807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0" y="3886200"/>
            <a:ext cx="9144000" cy="76320"/>
            <a:chOff x="0" y="3886200"/>
            <a:chExt cx="9144000" cy="76320"/>
          </a:xfrm>
        </p:grpSpPr>
        <p:sp>
          <p:nvSpPr>
            <p:cNvPr id="56" name=""/>
            <p:cNvSpPr/>
            <p:nvPr/>
          </p:nvSpPr>
          <p:spPr>
            <a:xfrm flipV="1">
              <a:off x="0" y="3886200"/>
              <a:ext cx="4572000" cy="763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72000" y="3886200"/>
              <a:ext cx="4572000" cy="763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676160"/>
            <a:ext cx="9144000" cy="75960"/>
            <a:chOff x="0" y="1676160"/>
            <a:chExt cx="9144000" cy="75960"/>
          </a:xfrm>
        </p:grpSpPr>
        <p:sp>
          <p:nvSpPr>
            <p:cNvPr id="59" name=""/>
            <p:cNvSpPr/>
            <p:nvPr/>
          </p:nvSpPr>
          <p:spPr>
            <a:xfrm flipV="1">
              <a:off x="0" y="1675440"/>
              <a:ext cx="4572000" cy="7596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72000" y="1675440"/>
              <a:ext cx="4572000" cy="7596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712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6019920"/>
            <a:ext cx="64771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28840" y="6573960"/>
            <a:ext cx="26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24a91"/>
                </a:solidFill>
                <a:latin typeface="Arial"/>
              </a:rPr>
              <a:t>Lawrence Livermore National Labor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2"/>
          </p:nvPr>
        </p:nvSpPr>
        <p:spPr>
          <a:xfrm>
            <a:off x="304560" y="6016680"/>
            <a:ext cx="84582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124a91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a91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60720" y="4113360"/>
            <a:ext cx="1136880" cy="103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352680" y="3962520"/>
            <a:ext cx="3081600" cy="1041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24a91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24a91"/>
              </a:buClr>
              <a:buFont typeface="Geneva C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712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aster Datalog for ROSE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0/3/2007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39560" y="5199120"/>
            <a:ext cx="655308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"/>
              </a:rPr>
              <a:t>Jeremiah J. Willcock</a:t>
            </a: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formance Measures x.x, x.x, and x.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given point in a rule, each variable can have one of two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means that the variable is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that it i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variable in a subgoal bin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ound variables and wildcards can be used in n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imitive tables have restrictions on what modes they can use (example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s that one of the variables is b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Examining a rule to determine its 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examined from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start out moded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card has mode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used in the left side of the rule must end up a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p(+), rule obeys range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(B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(–), B becom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(A, B, C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(–, +, –), A and C become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\+ g(_, C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g(_, 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(D, B, _)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(–, +, _), D becom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rimitive tabl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ables are built in (through includ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only support limited mode combinations, and (except for =) do not support 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can vary widely based on what mode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ses which iterate through memory pools if you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primitive tables is in rose.P (for ROSE constructs) and arith.P (for arithme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are usually similar to AST node names; the main node is the leftmost argument and the children are the other 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 is special – more on that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to me if you want more – they are easy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erformance issu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tricks to get good quer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keep tables as small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include elements which will not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tables are computed independently of any later queries o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pre-filter some arguments if you know that all lookups will have a certain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ood modes (requiring no or little iteration); most AST node tables and all user-defined tables can query all table elements, but avoid doing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erformance of switch without defaul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template “compas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include "rose.P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StatementCopy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Copy(N) :- switchStatement(N, _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ancNoSwitchEndingAtDefault(node, 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EndingAtDefaul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aultStatement(C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C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EndingAtDefaul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ancNoSwitchEndingAtDefault(B, C)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B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Default(S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(S, _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S, C), ancNoSwitchEndingAtDefault(C, _)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o test for defaul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out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outDefault(S) :- switchStatement(S, _, _), \+ switchWithDefault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?- switchWithoutDefault(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Parameter(“SwitchWithoutDefault.errorString”, ErrString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Error(S, “SwitchWithoutDefault”, ErrSt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Good 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(A), q(B), r(A, 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all elements of p and q, then filters using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(A), r(A, B), q(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only some elements of r, then filters using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r(A, B), p(A), q(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elements of r, then filters using p an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A = B, p(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n’t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\+ p(A), r(A, 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n’t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arent(B, A), switchStatement(A, _, _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switchStatement(A, _, _), parent(B, 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imple arithmetic example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solve quadratic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template “basic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include “arith.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(double, 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(A, B, C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 is B*B – 4*A*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 is ((0.0 – B) + plusMinus * sqrt(Disc)) / (2.0 * 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lare plusMinus(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usMinus(1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usMinus(-1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n’t compile – the compiler doesn’t have values for A, B, and C going into the definition of qsolve, so it can’t compute Disc o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The solu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Needed(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(double, 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(A, B, C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Needed(A, B, C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This binds A, B,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 is B*B – 4*A*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 is ((0.0 – B) + plusMinus * sqrt(Disc)) / (2.0 * 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need to insert elements into qsolveNeeded in order to enable q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imple form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gic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very tedious; compilers can do it, t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performance of tables which have few elements actually used but many co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Conclus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can be used to write efficient ROSE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vely simple implementation can generate high-quality code, if users are careful in writing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implementations can add features and more performance within the same bas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will be available soon (probably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pha- or beta-quality software, but doe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to play with it and feedback would be apprec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Why use Datalog to write ROSE analyses?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-based analyses are easier to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details of ROSE are handled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ructures are kept and efficiently que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as good as writing by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emory pools directly for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ptimizations can be ad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 and control flow information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add more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code can be called easily from D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Datalog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is a subset of Prolog used for querying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symbols ar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re guaranteed to 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think abou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grams are hard to write in a terminating way in Pr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of rules and clauses does not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it can affec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plementation compiles Datalog into efficient C++ code, often using ROSE to access 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yntax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 start with lowercase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start with uppercase letters or under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core itself is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entities in program (all end in perio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include “foo.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table(type1, type2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obj1, obj2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V) :- q(V, W), r(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y(V), compassError(V, “c”, “bad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start with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table definitions are also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More on rul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 side of a rule (or query) can contain a few kinds of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ableName(A, B, c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\+ tableName(A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table declarations create variou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include “rose.P” and “arith.P” to ge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.P includes access to ROSE ASTs and control flow graphs – talk to me if you need more than ar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.P includes double-precision arithm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Range restric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 part of D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variable which appears on the left side of a rule must appear non-negated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q(A, B), r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q(A, B), \+ r(B, 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, B) :- q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\+ q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tratified nega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systems with negation often include a stratification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ule cannot refer to itself (directly or indirectly) inside a n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w(A, 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(A) :- z(A, B), \+ 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\+ 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r(A, B), \+ 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r(A), \+ s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(B) :- t(B), \+ 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Example: switch without defaul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template “compas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include "rose.P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StatementCopy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Copy(N) :- switchStatement(N, _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ancNoSwitchEndingAtDefault(node, 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aultStatement(C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C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B, C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B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Default(S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(S, _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S, C), ancNoSwitchEndingAtDefault(C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out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outDefault(S) :- switchStatement(S, _, _), \+ switchWithDefault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?- switchWithoutDefault(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Parameter(“SwitchWithoutDefault.errorString”, ErrString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Error(S, “SwitchWithoutDefault”, ErrSt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The implementa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abl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strongly connected components and topologically sor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a good order to compute th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recursive groups of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ables as STL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functions to insert into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function to compute all of th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rules are more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triggered on insertion into particular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emiah Willcock</cp:lastModifiedBy>
  <cp:lastPrinted>2007-09-19T00:12:24Z</cp:lastPrinted>
  <dcterms:modified xsi:type="dcterms:W3CDTF">2007-10-05T20:56:24Z</dcterms:modified>
  <cp:revision>57</cp:revision>
  <dc:subject/>
  <dc:title>Faster Datalog for ROSE 10/3/2007</dc:title>
</cp:coreProperties>
</file>